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9A2-AC9A-4C13-BAD6-7D74DB4E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75A-8B01-4F2D-9D42-17E364FB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BE6-32C7-4D64-92CF-EE3481CB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D91-15FA-45E8-B6A4-7990F6EC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3BC2-6EDD-48D1-B541-837B8146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AD14-D37D-4174-9F71-B40A3E66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468E-D76C-42CB-99C8-CB031453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D6EC-1255-47A9-9E80-F1288A15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A823-3C06-452E-A0AE-7546131A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71F0-22D5-413E-B381-FF80701F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EF4C-912D-40AA-A653-C2326E7D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CD49-0E30-42C3-90F1-61FED220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3717-8593-41DA-925B-F005AE01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2B6B-E696-475A-9AEA-C8406A2F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E21B-E5D8-448C-AEA0-8F7F4A73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1C8C-194E-4D6C-B89A-2D2C4B4D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A2DA-B7D1-49DD-9338-EFA4DCF1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5CE80-9E83-4469-9192-87B55B41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5556F-EE3B-46ED-8904-27C04547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F1BC8-BF08-4B85-89DD-F1907100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F26D4-67A8-42B6-82A0-3C0FC37D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80B1F-41B3-40CB-A4C6-725201E5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0EAB-83C7-4F10-BF7B-D4AACCB4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FE3B4-DE78-48BE-A906-1B14C09B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DDC22-A1BB-42A6-A976-48A1AA1E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7155F-B7CD-4745-AF61-716C4655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6B72B-1573-4956-9528-403B0224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823DD-AC28-401E-A540-10D0051A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25928-6190-424D-86F7-C18304FF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1A6E5-21F2-4407-9663-C9BF1594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C2AF2-8588-45D8-B7F4-48CCD621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DD894-18BB-43D4-9091-405138B1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3D386-5A02-4CF1-9700-45819906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837-3B69-40BF-8537-F94A1BB5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E0565-7E69-42EC-AD1E-88F9CE52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E15D5-7D55-448B-84B5-981E4AFB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50F64-987D-41B0-8B66-2C8FFB7C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80CDF-2C23-45EF-959F-1FD7E27A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6971D-BC93-4ACB-B52E-CA74FBBB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F7137-0585-43EA-A0EE-FAC7EB96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861B9-A1B7-4C19-8706-66B971DD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23621-223A-44C9-A6EB-7BBAEDD2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E7EDD-A9CD-4AEB-942C-8405BF86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EDDF07-2B18-40FA-B878-96E03546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1CFB-2230-400D-AE6A-A0AB6717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53C947-818A-4C0E-921B-5FD97842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3A13D5-DC94-4396-B5AA-FDDEBF5B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A4731-0399-4D14-BDAD-651BA700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21C3CB-497D-402C-834A-C8CED96E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AC5431-62B5-48D6-B6DB-B6112C7D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7D1055-6F72-4F44-8CB7-C0F6C174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E6ACB9-993B-4FA2-AAA8-B76713C1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73D716-6919-4AF3-9984-6177D152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5F0FD-8F05-40CB-BDC4-7DAE3FED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E15A33-C93F-4942-B7C1-6E4068CD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C45-2956-4324-ADBC-71E77B2A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B1B3D-21E6-4144-9381-B6BE825A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199CDF-97E0-4118-B13C-DF217D4C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806FC0-4094-4241-A31C-62D353EC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E6AF67-3CFC-4273-950D-53DFABE0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ABE6E-DB70-4285-AEF6-61AEDCA1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53F1AA-C930-4E06-8E88-93626E4D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B795FD-BE49-4C07-A7D1-C26E796D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99BEAE-E8C7-403C-AC1E-633EC128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22513-E423-462D-BB2B-CB66C6ED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2C9D9-8102-4F81-8582-1CFF3239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364E-8978-4FCF-840C-CD310180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B43D0-9FC3-4FE2-9D8D-25CDFFF7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B77C83-D664-4072-902F-C268B7B1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C79082-DF33-46FE-B8C7-6274F00A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E9EAC5-E01E-4F82-85C0-A409D9F6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499494-187F-4CBE-9AF3-98C7F740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976AE4-C21E-498C-AFD8-25975765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DD3295-903E-459A-B4BA-8A0AFC7D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9EF1BC-6884-4129-A635-0F8BFF15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29335B-5935-494C-A824-3F7E31A8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4D898-0C03-4709-8079-B5D42C4C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718-A2E7-4D68-9B9A-CB753ACE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EB019-DBA0-42BB-8651-1B38726D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5A9780-AE3F-42C8-A5EF-50F1B95E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4C6C41-B542-48EC-BC31-5C1CF153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F06BEB-B7B9-4427-9CB4-3E38E5CC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67CCEA-CAA6-408F-875B-5E13FDA7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4A3-E124-4CF1-A918-2D697DCF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35A8-8614-4DFA-9BD6-F8AEF22CD4E2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3DD7-7B60-4E36-B404-F45E5CB4BF8F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51DE-6C72-4746-96C5-BB8366FCCB1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6AE1-7FA4-473C-AECA-41C0A20E6DC0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E1C9-8293-43C2-8FCC-4540E77E47AC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04E6-2AD6-40E2-9A33-C18BB0FFA058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5FCB-DF28-4D31-8E20-8434241BD0A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1835280" y="1341360"/>
            <a:ext cx="6769080" cy="89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اول آموزش مجازی</a:t>
            </a:r>
            <a:r>
              <a:rPr b="0" lang="fa-IR" sz="5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5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9"/>
          <p:cNvSpPr/>
          <p:nvPr/>
        </p:nvSpPr>
        <p:spPr>
          <a:xfrm>
            <a:off x="3995640" y="115920"/>
            <a:ext cx="172404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8"/>
          <p:cNvSpPr/>
          <p:nvPr/>
        </p:nvSpPr>
        <p:spPr>
          <a:xfrm>
            <a:off x="2771640" y="-68400"/>
            <a:ext cx="59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558ed5"/>
                </a:solidFill>
                <a:latin typeface="Arial"/>
                <a:cs typeface="B Nazanin"/>
              </a:rPr>
              <a:t>لیست دانشجویان درس عناصر و جزئیات ساختمان     ترم: بهمن  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99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-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C:\Users\Novin Pendar\Desktop\عناصر.JPG"/>
          <p:cNvPicPr/>
          <p:nvPr/>
        </p:nvPicPr>
        <p:blipFill>
          <a:blip r:embed="rId1"/>
          <a:stretch/>
        </p:blipFill>
        <p:spPr>
          <a:xfrm>
            <a:off x="4716360" y="404640"/>
            <a:ext cx="3827520" cy="64612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E:\E\دانشکده چمران\98\ترم دوم\عناصر و جزئیات\New Doc ۲۰۲۰-۰۴-۰۴_1.jpg"/>
          <p:cNvPicPr/>
          <p:nvPr/>
        </p:nvPicPr>
        <p:blipFill>
          <a:blip r:embed="rId1"/>
          <a:stretch/>
        </p:blipFill>
        <p:spPr>
          <a:xfrm>
            <a:off x="3419640" y="6480"/>
            <a:ext cx="5724360" cy="6783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E:\E\دانشکده چمران\98\ترم دوم\عناصر و جزئیات\New Doc ۲۰۲۰-۰۴-۰۴_2.jpg"/>
          <p:cNvPicPr/>
          <p:nvPr/>
        </p:nvPicPr>
        <p:blipFill>
          <a:blip r:embed="rId1"/>
          <a:stretch/>
        </p:blipFill>
        <p:spPr>
          <a:xfrm>
            <a:off x="3635280" y="23760"/>
            <a:ext cx="5508720" cy="6846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" descr="E:\E\دانشکده چمران\98\ترم دوم\عناصر و جزئیات\New Doc ۲۰۲۰-۰۴-۰۴_3.jpg"/>
          <p:cNvPicPr/>
          <p:nvPr/>
        </p:nvPicPr>
        <p:blipFill>
          <a:blip r:embed="rId1"/>
          <a:stretch/>
        </p:blipFill>
        <p:spPr>
          <a:xfrm>
            <a:off x="2987640" y="27000"/>
            <a:ext cx="5464080" cy="6978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E:\E\دانشکده چمران\98\ترم دوم\عناصر و جزئیات\New Doc ۲۰۲۰-۰۴-۰۴_4.jpg"/>
          <p:cNvPicPr/>
          <p:nvPr/>
        </p:nvPicPr>
        <p:blipFill>
          <a:blip r:embed="rId1"/>
          <a:stretch/>
        </p:blipFill>
        <p:spPr>
          <a:xfrm>
            <a:off x="2987640" y="0"/>
            <a:ext cx="6015240" cy="7007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E:\E\دانشکده چمران\98\ترم دوم\عناصر و جزئیات\New Doc ۲۰۲۰-۰۴-۰۴_5.jpg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691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3" descr="E:\E\دانشکده چمران\98\ترم دوم\عناصر و جزئیات\New Doc ۲۰۲۰-۰۴-۰۴_6.jpg"/>
          <p:cNvPicPr/>
          <p:nvPr/>
        </p:nvPicPr>
        <p:blipFill>
          <a:blip r:embed="rId1"/>
          <a:stretch/>
        </p:blipFill>
        <p:spPr>
          <a:xfrm>
            <a:off x="3635280" y="6480"/>
            <a:ext cx="5504040" cy="681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E:\E\دانشکده چمران\98\ترم دوم\عناصر و جزئیات\New Doc ۲۰۲۰-۰۴-۰۴_7.jpg"/>
          <p:cNvPicPr/>
          <p:nvPr/>
        </p:nvPicPr>
        <p:blipFill>
          <a:blip r:embed="rId1"/>
          <a:stretch/>
        </p:blipFill>
        <p:spPr>
          <a:xfrm>
            <a:off x="3059280" y="15840"/>
            <a:ext cx="6064200" cy="6872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5T12:54:59Z</dcterms:modified>
  <cp:revision>631</cp:revision>
  <dc:subject/>
  <dc:title>Slide 1</dc:title>
</cp:coreProperties>
</file>