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9F02-E51B-4DBB-8731-45E494430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141C-38C6-44CD-9F29-E712B6C81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7F6B-FE17-44C9-8EB2-54D9E8985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ADAD-29E4-464F-8215-81A0653B5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FE78E-69F0-4A30-9AA3-7A82ED144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CF17E-9345-43BC-B5FB-442761C21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F3C51-6AA8-4E74-9F92-4D0CF0077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B4A53-EB03-4AD9-A25C-20D895F36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78EEE-D392-4DF4-9BF1-0B1DA230B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770EE-11EE-443D-A981-F63F742D1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EFB1B-3C7F-4BEB-9599-386045EE1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76D7-1FAC-4EE1-A253-4D67050C7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83D20-A774-430B-B717-0EEE5DC21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6B944-0B34-491D-9921-7A27073E4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F6A59-B54F-4ACA-B8E0-B6788B60E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D7151-F2BA-4405-BF88-61DADF1E0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85789-4AEB-44FF-9CA7-3E4376FDA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52B6A8-3BAE-4001-BCFE-F64328AEA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9AD9BD-FE8E-4CFC-A8C9-453AAEC64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E07DA2-10B4-42FE-9E5A-FEE680E74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0548D7-783F-4E86-A66F-30515924F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A73FB5-0205-4D36-9213-FF7C698BF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1FFE-EA94-4BF5-B420-7AE861C07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A257AD-C04B-4F39-9CD4-5AB4B5FD8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C98291-3F34-498B-81F5-2060D8393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BE8AB9-D3C8-4378-B348-6DFC9BD9A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81AB11-2384-4277-BD9B-B88FCDB93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FD750D-E9CC-4EA7-806A-64AD4EF62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816982-61D6-4A3D-8E52-82A50FF5D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416B0B-3537-41EA-9EB0-4CB22F34A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27A5D-5738-4566-9FB9-1B927C298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F5A90-E419-4F4D-A116-179CC1FEE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8461C-9B0E-4DF9-8E28-DAF424635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DAE8-4BC5-4C89-AEC0-F513CBF9A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4CA6C-6DC5-4020-B94D-3A3A45C10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B6F97-067E-4981-9909-24752485B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F0630-E72C-44D4-A126-0FC6FD3AE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9A2C1-6504-448C-83FD-EFC35EE3C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701A3-ACAE-4EDD-969B-FFEBA6FD5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7145B-5E09-42D2-9250-6D965D53C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56D93-EF78-48D0-913A-CBF1BF81A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FAB32-E7B3-4C25-8B31-CE570DC0B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C1110-69CC-40D3-A4F1-F2888EA4C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F51CED-838D-463A-9F54-2E30DD3E4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A043-6EC0-4A21-A298-DBC8540AB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11D78F-9839-4F06-87DE-53583EDDC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F43D2F-5E0A-4561-9DAA-4FC973AC2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D848BA-3632-43EB-BFD4-476FC2613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D0D3AE-C37A-43CD-AB29-192DD6270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F63E91-FDF8-4AA2-9A47-8BCB9CFE3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D1AFED-FD0C-48B5-AF7F-07B0A6B37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DACF4B-2277-4927-9837-BDBA88CE4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EDC48E-8148-4DF5-9F42-1ABEA7810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FA9034-C88E-45AB-A450-D8794BA68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02543D-CFBE-4D98-8B60-1A6929C8E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E8EA-A8AC-49E7-A788-DD8AD6228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6F887B-3FFD-4490-8A95-B20028627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59F289-C4E1-4AE1-9AD6-04A3F6739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015AB4-E06E-41D1-A4F4-44B932A6E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85ED24-5EE7-4F94-95A5-759B4F828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CC00D9-9E03-41A4-8E97-88C1493BA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9FAF48-6695-4EBD-8785-593062800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501AB8-B7B5-4236-BF3D-83B926C13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D568B1-35EC-42CF-BFA7-66F2CE533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9917D8-8F43-4120-8370-1DBE66A5D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5988AE-7E73-4389-9ECC-BAC691A9E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C39D-2651-41D4-913D-525F3428F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CA42E2-28E4-4D17-91BE-8DFEFDE44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882A6C-2F55-4282-8516-66CD5DD47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EE9B7D-03D6-43A6-884B-14AEE1164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60C812-97F3-42FE-976E-6B92A20CC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F6FB82-13D6-4367-9717-17811EC1F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E349D0-F46F-4BAA-B0D8-FF4128B58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03F871-F3FE-4CC5-843D-F23008B0D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F80B63-86A1-4345-8ED9-2B2A0BE32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3D6727-7639-44DC-8E27-F303EC8A8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E5CB44-8D54-4F4C-BFD3-766AAA992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964E-00C2-45A1-A546-2E5C476F1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1344F5-CC5F-42DD-ACE3-A3F6D9DFB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FAE6A1-58DA-4FA6-992F-BF2BCA141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CEA8C8-3538-49D6-A799-EC2C7F084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3896D2-91F8-4107-B0EB-5C831A605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BAA0A8-E9C7-4AAF-9865-FBA71D0EF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6743-582D-4217-8B04-C1554A46C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61EBB-CD43-4F8B-9956-CF7FDD6C0ABB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0FFD9-0DB5-4A27-A6FC-E194B7617BF5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382BC-9ACC-4E1F-8448-87DFE433202A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eece1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eeece1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eeece1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7246B-7E6D-4EEF-996D-EA41D6372C64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64771-299B-4CCC-B957-35F4068DD5EC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92795-6B83-4CBB-BCBF-A6EF934D1544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3F26C-0409-48F0-99F8-ED4D87DC3318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19"/>
          <p:cNvSpPr/>
          <p:nvPr/>
        </p:nvSpPr>
        <p:spPr>
          <a:xfrm>
            <a:off x="3995640" y="-100080"/>
            <a:ext cx="1724040" cy="12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e46c0a"/>
                </a:solidFill>
                <a:latin typeface="Calibri"/>
                <a:cs typeface="IranNastaliq"/>
              </a:rPr>
              <a:t>به نام خد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Oval 21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4"/>
          <p:cNvSpPr/>
          <p:nvPr/>
        </p:nvSpPr>
        <p:spPr>
          <a:xfrm>
            <a:off x="1835280" y="2133720"/>
            <a:ext cx="6769080" cy="75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جلسه دوم آموزش مجازی</a:t>
            </a:r>
            <a:r>
              <a:rPr b="0" lang="fa-IR" sz="4400" spc="-1" strike="noStrike">
                <a:solidFill>
                  <a:srgbClr val="e46c0a"/>
                </a:solidFill>
                <a:latin typeface="Calibri"/>
                <a:ea typeface="IranNastaliq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عنوان درس: عناصر    و     جزئیات   ساختم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رشته: کاردانی پیوسته نقشه کشی معمار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مدرس: بهزاد آقاخان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شماره تماس جهت گروه واتس آپ:  </a:t>
            </a:r>
            <a:r>
              <a:rPr b="0" lang="fa-IR" sz="4400" spc="-1" strike="noStrike">
                <a:solidFill>
                  <a:srgbClr val="e46c0a"/>
                </a:solidFill>
                <a:latin typeface="Calibri"/>
                <a:ea typeface="IranNastaliq"/>
              </a:rPr>
              <a:t>0937325773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5"/>
          <p:cNvSpPr/>
          <p:nvPr/>
        </p:nvSpPr>
        <p:spPr>
          <a:xfrm>
            <a:off x="5665680" y="754200"/>
            <a:ext cx="3097440" cy="17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558ed5"/>
                </a:solidFill>
                <a:latin typeface="Calibri"/>
                <a:cs typeface="IranNastaliq"/>
              </a:rPr>
              <a:t>دانشکده فنی و حرفه ای پسران چمران اهوا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5" descr="C:\Users\Novin Pendar\Desktop\آرم دانشکده.JPG"/>
          <p:cNvPicPr/>
          <p:nvPr/>
        </p:nvPicPr>
        <p:blipFill>
          <a:blip r:embed="rId1"/>
          <a:stretch/>
        </p:blipFill>
        <p:spPr>
          <a:xfrm>
            <a:off x="1763640" y="620640"/>
            <a:ext cx="277200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5" descr="E:\E\دانشکده چمران\98\ترم دوم\عناصر و جزئیات\New Doc ۲۰۲۰-۰۴-۰۴_8.jpg"/>
          <p:cNvPicPr/>
          <p:nvPr/>
        </p:nvPicPr>
        <p:blipFill>
          <a:blip r:embed="rId1"/>
          <a:stretch/>
        </p:blipFill>
        <p:spPr>
          <a:xfrm>
            <a:off x="3708360" y="0"/>
            <a:ext cx="5400720" cy="690084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2" descr="E:\E\دانشکده چمران\98\ترم دوم\عناصر و جزئیات\New Doc ۲۰۲۰-۰۴-۰۴_9.jpg"/>
          <p:cNvPicPr/>
          <p:nvPr/>
        </p:nvPicPr>
        <p:blipFill>
          <a:blip r:embed="rId1"/>
          <a:stretch/>
        </p:blipFill>
        <p:spPr>
          <a:xfrm>
            <a:off x="3780000" y="0"/>
            <a:ext cx="5335560" cy="694548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2" descr="E:\E\دانشکده چمران\98\ترم دوم\عناصر و جزئیات\New Doc ۲۰۲۰-۰۴-۰۴_10.jpg"/>
          <p:cNvPicPr/>
          <p:nvPr/>
        </p:nvPicPr>
        <p:blipFill>
          <a:blip r:embed="rId1"/>
          <a:stretch/>
        </p:blipFill>
        <p:spPr>
          <a:xfrm>
            <a:off x="3708360" y="0"/>
            <a:ext cx="5435640" cy="696600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2" descr="E:\E\دانشکده چمران\98\ترم دوم\عناصر و جزئیات\New Doc ۲۰۲۰-۰۴-۰۴_11.jpg"/>
          <p:cNvPicPr/>
          <p:nvPr/>
        </p:nvPicPr>
        <p:blipFill>
          <a:blip r:embed="rId1"/>
          <a:stretch/>
        </p:blipFill>
        <p:spPr>
          <a:xfrm>
            <a:off x="3780000" y="11160"/>
            <a:ext cx="5359320" cy="696420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2" descr="E:\E\دانشکده چمران\98\ترم دوم\عناصر و جزئیات\New Doc ۲۰۲۰-۰۴-۰۴_12.jpg"/>
          <p:cNvPicPr/>
          <p:nvPr/>
        </p:nvPicPr>
        <p:blipFill>
          <a:blip r:embed="rId1"/>
          <a:stretch/>
        </p:blipFill>
        <p:spPr>
          <a:xfrm>
            <a:off x="4140360" y="0"/>
            <a:ext cx="4846320" cy="686268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2" descr="E:\E\دانشکده چمران\98\ترم دوم\عناصر و جزئیات\New Doc ۲۰۲۰-۰۴-۰۴_13.jpg"/>
          <p:cNvPicPr/>
          <p:nvPr/>
        </p:nvPicPr>
        <p:blipFill>
          <a:blip r:embed="rId1"/>
          <a:stretch/>
        </p:blipFill>
        <p:spPr>
          <a:xfrm>
            <a:off x="3564000" y="0"/>
            <a:ext cx="5562360" cy="685656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2" descr="E:\E\دانشکده چمران\98\ترم دوم\عناصر و جزئیات\New Doc ۲۰۲۰-۰۴-۰۴_14.jpg"/>
          <p:cNvPicPr/>
          <p:nvPr/>
        </p:nvPicPr>
        <p:blipFill>
          <a:blip r:embed="rId1"/>
          <a:stretch/>
        </p:blipFill>
        <p:spPr>
          <a:xfrm>
            <a:off x="3780000" y="20520"/>
            <a:ext cx="5364000" cy="686772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8T19:22:35Z</dcterms:created>
  <dc:creator>iman</dc:creator>
  <dc:description/>
  <dc:language>en-US</dc:language>
  <cp:lastModifiedBy>Novin Pendar</cp:lastModifiedBy>
  <dcterms:modified xsi:type="dcterms:W3CDTF">2020-04-05T18:52:24Z</dcterms:modified>
  <cp:revision>635</cp:revision>
  <dc:subject/>
  <dc:title>Slide 1</dc:title>
</cp:coreProperties>
</file>