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62F-9290-4F65-BE30-CA7FCEF9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5B5-86AB-42A4-88DA-78D3CD06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AFC8-C554-4180-92F6-8EAC7DF6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9E8-0390-4766-91E7-73F0D347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340B-85A6-4545-AC67-B1896497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B86B-7741-46D5-8A63-BCE95A09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1CB5-EB0D-4F17-A44B-56132AB2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8996-2427-4322-BC6E-44E69823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1A5E-8873-486D-9E62-05D98265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4B1A-9E42-4880-A70F-C70DB266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BB9E-DFD8-40F9-AFB1-5D8D3702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EF8D-54CF-41B1-97EE-EF71A127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650D-81FE-4963-BF63-289FF06B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DF28-0296-45AB-ACA7-AAA473B4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AB45-3CF1-457A-A786-630369AE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7ABD-8D24-4BEF-97AF-0302CC84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E548-726C-41AE-96A0-0916CF45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285FC-F52C-44EA-B095-AE996587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F6E2B-41B6-4A60-ACB8-1B64AF54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5C507-B7FB-4431-AA6A-CE10ABC3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38FE0-65BC-462A-95CE-E436B3CF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F8771-1221-4752-8A94-9D5CB1E4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EA4F-5E61-41F8-8B89-875A9297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2D310-DE9F-4B05-A5B7-C81C1F1F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52B9D-5F40-41F6-9BFC-F5403363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19D28-FE03-4458-891F-5E11C952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B6486-98C2-4527-9354-F508A511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A05B2-84B2-4407-8C7A-E0FBFF8D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F6F4F-A6AC-43F4-A9C7-6EBFCCEE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88381-AF0E-425D-849B-73C46139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2FAB5-F8ED-405F-9621-F3F45DB9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8F285-ED22-4798-B29C-768C3343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85323-8D07-4BBD-9799-708CC9DA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697-931C-447E-8F8E-51360D8B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6EA88-C9EC-47C1-BB52-1CAEF8C1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BA8FE-9E66-4151-86D9-7AD112FA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25EE9-9998-412B-965C-FEF9071F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275AE-59CF-441E-849F-9466763A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EE04B-72E3-484E-BCE5-CC8EC83B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79000-E656-4549-BC78-4E932198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B9ADD-D29A-4409-AF84-CD73E7EE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4295A-A5AF-4B4B-BDE1-57052537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2FAE1-94D3-4837-9444-B8000BEC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76CC4-6923-4C4B-956C-7DA4F695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A3E-B738-4A94-842D-CA2A923D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FBF29-E8CD-400C-BCD0-8763981F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EEFE7-FECA-4E66-BB79-D87649EE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DDFAD2-7DAD-4F9D-8BED-3ECC5D6C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FAA127-0BC4-4358-8AB0-E640CA69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03559A-1B13-48DF-A7DD-52F0449D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DD2D11-6EB0-40F7-9DF2-93D0B9AD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999A27-8CA8-40FB-A9BC-63688339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955CCC-BD92-4B98-A518-CBC6AE44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6A93FB-5516-4CD5-AF4D-EEAB35EE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8911CF-2B99-441F-AEC5-3B951A02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6A0A-34A1-4880-A1F9-761C8036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1F2161-D145-4240-8777-84BFA126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352CC4-6415-4DE0-932D-FF8D7153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1AC28-2F89-4183-9BA0-2FB3E49E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7ED5F3-2039-4BAC-9D37-0203AE0E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D0A22E-E9FA-4D9B-B10D-24E3EF09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DDBC19-BD9A-4F1A-892A-62D030DD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BE8EB5-AB4E-48DB-A363-ED18A595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312E62-3AF4-4B13-9780-48672AAF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F73257-9697-4D12-90DF-59E1EE18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F79F6-C9CB-42E2-9B36-13CC6C57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280-724D-461B-832B-36E7B162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0D13AB-070C-41F6-BFB2-D37D8BAC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9DB710-FB78-4F9F-A494-AEC0F91A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9E204-6075-4C13-B503-1185F5F8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54DCEB-0427-4E3C-B358-5021C383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B60063-499D-48FC-8640-B9682F04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222055-6B18-45A1-B9C3-D25221BE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2DEB19-E793-4B92-8C59-3B1A4B2E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6858DA-084F-4D2B-8532-42ABB197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9BAF9F-C5E4-438C-BF4A-871A60FF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574BAF-840A-4E97-A6AE-0388FB32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B1BF-D9DF-45C8-A8B7-D37ABB1D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897A0D-608A-4632-93E7-08184310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69AEB7-9478-40DC-9CB2-58C2DD19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E9A3FF-A743-4022-A301-4CE49DF3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BF576F-DA97-47E8-A966-6DAD7A63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EDD37-B1C6-43FF-B74D-66F964EB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C53-9D77-4BF6-B701-ADDE1BB5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D505-5DE4-4916-9FB1-B79D953D5AE5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37C0-257C-42B7-BDDD-74C04C1F8676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8BBE-EC8B-4919-A28C-48BA7CC4213F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1E01-212F-4A20-BD72-D1B680A2E288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57A5-6E71-46B2-94A6-AEEC79B911A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FE81-6960-47AE-B807-9A69DAC8B6FC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EDB0-14B1-4D7B-8BD2-E1CEBCDECF1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9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1835280" y="2133720"/>
            <a:ext cx="6769080" cy="75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دوم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8.jpg"/>
          <p:cNvPicPr/>
          <p:nvPr/>
        </p:nvPicPr>
        <p:blipFill>
          <a:blip r:embed="rId1"/>
          <a:stretch/>
        </p:blipFill>
        <p:spPr>
          <a:xfrm>
            <a:off x="3708360" y="0"/>
            <a:ext cx="5400720" cy="6900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E:\E\دانشکده چمران\98\ترم دوم\عناصر و جزئیات\New Doc ۲۰۲۰-۰۴-۰۴_9.jpg"/>
          <p:cNvPicPr/>
          <p:nvPr/>
        </p:nvPicPr>
        <p:blipFill>
          <a:blip r:embed="rId1"/>
          <a:stretch/>
        </p:blipFill>
        <p:spPr>
          <a:xfrm>
            <a:off x="3780000" y="0"/>
            <a:ext cx="5335560" cy="69454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E:\E\دانشکده چمران\98\ترم دوم\عناصر و جزئیات\New Doc ۲۰۲۰-۰۴-۰۴_10.jpg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6966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E:\E\دانشکده چمران\98\ترم دوم\عناصر و جزئیات\New Doc ۲۰۲۰-۰۴-۰۴_11.jpg"/>
          <p:cNvPicPr/>
          <p:nvPr/>
        </p:nvPicPr>
        <p:blipFill>
          <a:blip r:embed="rId1"/>
          <a:stretch/>
        </p:blipFill>
        <p:spPr>
          <a:xfrm>
            <a:off x="3780000" y="11160"/>
            <a:ext cx="5359320" cy="69642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E:\E\دانشکده چمران\98\ترم دوم\عناصر و جزئیات\New Doc ۲۰۲۰-۰۴-۰۴_12.jpg"/>
          <p:cNvPicPr/>
          <p:nvPr/>
        </p:nvPicPr>
        <p:blipFill>
          <a:blip r:embed="rId1"/>
          <a:stretch/>
        </p:blipFill>
        <p:spPr>
          <a:xfrm>
            <a:off x="4140360" y="0"/>
            <a:ext cx="4846320" cy="68626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E:\E\دانشکده چمران\98\ترم دوم\عناصر و جزئیات\New Doc ۲۰۲۰-۰۴-۰۴_13.jpg"/>
          <p:cNvPicPr/>
          <p:nvPr/>
        </p:nvPicPr>
        <p:blipFill>
          <a:blip r:embed="rId1"/>
          <a:stretch/>
        </p:blipFill>
        <p:spPr>
          <a:xfrm>
            <a:off x="3564000" y="0"/>
            <a:ext cx="556236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E:\E\دانشکده چمران\98\ترم دوم\عناصر و جزئیات\New Doc ۲۰۲۰-۰۴-۰۴_14.jpg"/>
          <p:cNvPicPr/>
          <p:nvPr/>
        </p:nvPicPr>
        <p:blipFill>
          <a:blip r:embed="rId1"/>
          <a:stretch/>
        </p:blipFill>
        <p:spPr>
          <a:xfrm>
            <a:off x="3780000" y="20520"/>
            <a:ext cx="5364000" cy="68677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8:52:24Z</dcterms:modified>
  <cp:revision>635</cp:revision>
  <dc:subject/>
  <dc:title>Slide 1</dc:title>
</cp:coreProperties>
</file>