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BEEA-39CF-4F94-B545-2FBBE3859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B82E-57A3-4F60-99CB-2105D2358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56CB-1CDF-40F6-8770-DC813C8A4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701F-DE71-4F56-9180-D99FB30DC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A3505-2CF7-4E7D-868B-896D797F4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68789-DF07-478D-9018-37A7F689D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7382F-1FE8-43C0-8D05-91D3273C0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B6E63-176A-43AC-A582-9AC0EF187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4FECD-1C46-48F5-A137-53EF0BA27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B99E3-F617-4585-B096-0C1DFBE03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A67F7-4BB1-4F0D-A317-2BCDB4F54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9FC1-87C2-42A2-8646-8BE60FBA3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3A096-E04C-46F9-BB97-0AE040EBD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55C70-97FD-41F4-BBAC-352FDB091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B2803-F0BA-4E13-8BA7-5F73F78AF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4F58D-BCE7-47AC-A7EB-467084867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7FF85-5DD0-413E-9D05-1C1F45F56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32A353-EEC2-4E58-A366-13DFE859A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BB2377-732E-4D6E-9890-89BAC82FE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EB80FE-10F4-4219-8D22-C2E6DFE1D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0FC0F6-C356-4EB7-B9AA-A3231924A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2C40DF-B5DE-48B1-ADA9-37943DDD6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41AE-25C2-4855-A098-77B5CBB19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B0FCCB-8F89-4CA3-9C49-52B3A74BA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17BD68-1EC7-448E-9A7F-CAB44F3A2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B8751D-5C36-4748-8665-81102AC9A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E74A82-0722-4414-A6A1-826069622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62915A-615F-417C-B660-37ED0EAB1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82DE58-1144-44F5-81A1-40AE5A7C5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9A8149-B993-494B-9EBE-D23FC69E8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1501D7-4824-4624-8502-63F347227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264B2E-462D-4DB1-9D1F-E6B7227C1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CF33C7-994A-4870-AB4B-2C5016A72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5DAD-D9AB-477D-BE31-57DCDB5C3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0E3534-6C52-4038-9395-8F32C715A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679362-A331-4B1C-999B-581065B34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0596E4-7BA1-4951-873F-3C57E0939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B4AEC2-C17C-40CA-826D-888365578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020F4A-A137-4A6E-9CC9-8D36AD0BF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A7804D-08E3-4CB8-A2B2-5E67A9E37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0C0B7D-B6FB-4042-8F42-79373BF47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134FFD-3120-4E2C-9582-B9A467C22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3CDBFA-3BAB-4D53-A6DE-B295A2CBB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443E0E-3A67-4159-84A2-CD523FEB5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0F76-E63E-4EB8-A966-7DCC044DF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3FE506-1069-4E7A-BBA3-D674401C0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F939F4-F113-4E49-A049-6970359A1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35CEB24-4AD7-459E-9C12-75916F549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D62226-83CE-415B-85D2-0BDB2BA7E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B55B4A-AE98-4DE9-A2E2-92BE65049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AA00EE-BEC8-4531-AA3B-BEEECD289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FA94E4-D2A5-430E-8FDF-E89FE911F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D04525-8453-45C8-8CA1-C001E1511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08D17B-425B-40A9-9F4D-A9ABD5CFD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FEA7FA-53D2-4D3C-8522-A79F27CB3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7884-C559-420D-B31A-CFD2ED566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DDB2B8-9E2C-46B4-804F-D30AC342D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EF3817E-BF20-4E62-A9CA-DDEC5DA0A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39DB1E-6696-4AD1-8ACE-36F0C06F6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4EFB77D-AFA8-441A-85D7-66BF26071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99CF762-10AD-47CE-824A-D6BC1F0D8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5473D83-277F-4FE0-AEC5-B1AD6D232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0BA6D2-0D10-48D1-B6E9-E42C8ED2C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6EB5FDA-B2EB-484F-9BBA-274CE8741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35F4B47-B74C-4EAC-92EC-2725322F9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4F54282-139A-4852-9014-D8442CB67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0FF3-7057-4172-9274-44B97E382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C280AF5-1F73-44EF-845F-8D81C8FE1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76468A7-9809-4E4E-94FB-97D206824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A8CE743-C592-49F0-9059-B144705F4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0511FF5-E79E-4352-B41A-3CF795462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71050BA-238B-42D9-82A1-505F2578F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BF99676-D18A-41BA-B08B-15F1DB17D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9ACCCC0-F483-4E5A-96E3-FC5215458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DACBA48-5D32-4946-A8CD-789031233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568CE0D-6287-4343-BD65-B0A962E2D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75944E8-1BFA-4859-9B99-115332410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7DA0-FCBB-4332-BCA3-E9AED7B56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E35E0FB-70FB-4AB5-A1EA-DBEEDEB04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2CE113A-79CD-4803-B075-3AAF84CEB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0153E79-E0AF-47CC-A51B-1525A5510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50F7E1D-E9C7-4E2E-B5B8-3C49134BB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2C7A17A-8829-4026-9D36-C744538AC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BAEF-95B8-41E6-B541-5D97C0C26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C95AC-AFE2-40A7-B47E-0BAFA6108628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b2c1db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0d8e8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0d8e8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9edf4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b2c1db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9edf4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b2c1db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b2c1db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EC46B-A4A9-4A1F-A6A1-8BE954ADC13E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E33BB-C650-4A80-8038-2C4955A54CFD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b2c1db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0d8e8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0d8e8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9edf4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b2c1db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9edf4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b2c1db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b2c1db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eece1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eeece1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eeece1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89F49-A87E-40AB-BE9D-444267D7BC97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43D73-1B45-4C1D-A45E-21FC8685427D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4FDF7-793A-4E11-9E28-1E3389DA21B4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94B3F-7484-4749-86C3-D524FFC0BC57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19"/>
          <p:cNvSpPr/>
          <p:nvPr/>
        </p:nvSpPr>
        <p:spPr>
          <a:xfrm>
            <a:off x="3995640" y="-100080"/>
            <a:ext cx="1724040" cy="12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e46c0a"/>
                </a:solidFill>
                <a:latin typeface="Calibri"/>
                <a:cs typeface="IranNastaliq"/>
              </a:rPr>
              <a:t>به نام خد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Oval 21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4"/>
          <p:cNvSpPr/>
          <p:nvPr/>
        </p:nvSpPr>
        <p:spPr>
          <a:xfrm>
            <a:off x="1835280" y="2133720"/>
            <a:ext cx="6769080" cy="75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e46c0a"/>
                </a:solidFill>
                <a:latin typeface="Calibri"/>
                <a:cs typeface="IranNastaliq"/>
              </a:rPr>
              <a:t>جلسه دوم آموزش مجازی</a:t>
            </a:r>
            <a:r>
              <a:rPr b="0" lang="fa-IR" sz="4400" spc="-1" strike="noStrike">
                <a:solidFill>
                  <a:srgbClr val="e46c0a"/>
                </a:solidFill>
                <a:latin typeface="Calibri"/>
                <a:ea typeface="IranNastaliq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e46c0a"/>
                </a:solidFill>
                <a:latin typeface="Calibri"/>
                <a:cs typeface="IranNastaliq"/>
              </a:rPr>
              <a:t>عنوان درس: عناصر    و     جزئیات   ساختم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e46c0a"/>
                </a:solidFill>
                <a:latin typeface="Calibri"/>
                <a:cs typeface="IranNastaliq"/>
              </a:rPr>
              <a:t>رشته: کاردانی پیوسته نقشه کشی معمار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e46c0a"/>
                </a:solidFill>
                <a:latin typeface="Calibri"/>
                <a:cs typeface="IranNastaliq"/>
              </a:rPr>
              <a:t>مدرس: بهزاد آقاخان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e46c0a"/>
                </a:solidFill>
                <a:latin typeface="Calibri"/>
                <a:cs typeface="IranNastaliq"/>
              </a:rPr>
              <a:t>شماره تماس جهت گروه واتس آپ:  </a:t>
            </a:r>
            <a:r>
              <a:rPr b="0" lang="fa-IR" sz="4400" spc="-1" strike="noStrike">
                <a:solidFill>
                  <a:srgbClr val="e46c0a"/>
                </a:solidFill>
                <a:latin typeface="Calibri"/>
                <a:ea typeface="IranNastaliq"/>
              </a:rPr>
              <a:t>0937325773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5"/>
          <p:cNvSpPr/>
          <p:nvPr/>
        </p:nvSpPr>
        <p:spPr>
          <a:xfrm>
            <a:off x="5665680" y="754200"/>
            <a:ext cx="3097440" cy="177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558ed5"/>
                </a:solidFill>
                <a:latin typeface="Calibri"/>
                <a:cs typeface="IranNastaliq"/>
              </a:rPr>
              <a:t>دانشکده فنی و حرفه ای پسران چمران اهوا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5" descr="C:\Users\Novin Pendar\Desktop\آرم دانشکده.JPG"/>
          <p:cNvPicPr/>
          <p:nvPr/>
        </p:nvPicPr>
        <p:blipFill>
          <a:blip r:embed="rId1"/>
          <a:stretch/>
        </p:blipFill>
        <p:spPr>
          <a:xfrm>
            <a:off x="1763640" y="620640"/>
            <a:ext cx="2772000" cy="19051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Oval 15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5" descr="E:\E\دانشکده چمران\98\ترم دوم\عناصر و جزئیات\New Doc ۲۰۲۰-۰۴-۰۴_8.jpg"/>
          <p:cNvPicPr/>
          <p:nvPr/>
        </p:nvPicPr>
        <p:blipFill>
          <a:blip r:embed="rId1"/>
          <a:stretch/>
        </p:blipFill>
        <p:spPr>
          <a:xfrm>
            <a:off x="3708360" y="0"/>
            <a:ext cx="5400720" cy="690084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Oval 15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2" descr="E:\E\دانشکده چمران\98\ترم دوم\عناصر و جزئیات\New Doc ۲۰۲۰-۰۴-۰۴_9.jpg"/>
          <p:cNvPicPr/>
          <p:nvPr/>
        </p:nvPicPr>
        <p:blipFill>
          <a:blip r:embed="rId1"/>
          <a:stretch/>
        </p:blipFill>
        <p:spPr>
          <a:xfrm>
            <a:off x="3780000" y="0"/>
            <a:ext cx="5335560" cy="694548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Oval 15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Picture 2" descr="E:\E\دانشکده چمران\98\ترم دوم\عناصر و جزئیات\New Doc ۲۰۲۰-۰۴-۰۴_10.jpg"/>
          <p:cNvPicPr/>
          <p:nvPr/>
        </p:nvPicPr>
        <p:blipFill>
          <a:blip r:embed="rId1"/>
          <a:stretch/>
        </p:blipFill>
        <p:spPr>
          <a:xfrm>
            <a:off x="3708360" y="0"/>
            <a:ext cx="5435640" cy="696600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Oval 15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2" descr="E:\E\دانشکده چمران\98\ترم دوم\عناصر و جزئیات\New Doc ۲۰۲۰-۰۴-۰۴_11.jpg"/>
          <p:cNvPicPr/>
          <p:nvPr/>
        </p:nvPicPr>
        <p:blipFill>
          <a:blip r:embed="rId1"/>
          <a:stretch/>
        </p:blipFill>
        <p:spPr>
          <a:xfrm>
            <a:off x="3780000" y="11160"/>
            <a:ext cx="5359320" cy="696420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Oval 15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Picture 2" descr="E:\E\دانشکده چمران\98\ترم دوم\عناصر و جزئیات\New Doc ۲۰۲۰-۰۴-۰۴_12.jpg"/>
          <p:cNvPicPr/>
          <p:nvPr/>
        </p:nvPicPr>
        <p:blipFill>
          <a:blip r:embed="rId1"/>
          <a:stretch/>
        </p:blipFill>
        <p:spPr>
          <a:xfrm>
            <a:off x="4140360" y="0"/>
            <a:ext cx="4846320" cy="686268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Oval 15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Picture 2" descr="E:\E\دانشکده چمران\98\ترم دوم\عناصر و جزئیات\New Doc ۲۰۲۰-۰۴-۰۴_13.jpg"/>
          <p:cNvPicPr/>
          <p:nvPr/>
        </p:nvPicPr>
        <p:blipFill>
          <a:blip r:embed="rId1"/>
          <a:stretch/>
        </p:blipFill>
        <p:spPr>
          <a:xfrm>
            <a:off x="3564000" y="0"/>
            <a:ext cx="5562360" cy="685656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Oval 15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Picture 2" descr="E:\E\دانشکده چمران\98\ترم دوم\عناصر و جزئیات\New Doc ۲۰۲۰-۰۴-۰۴_14.jpg"/>
          <p:cNvPicPr/>
          <p:nvPr/>
        </p:nvPicPr>
        <p:blipFill>
          <a:blip r:embed="rId1"/>
          <a:stretch/>
        </p:blipFill>
        <p:spPr>
          <a:xfrm>
            <a:off x="3780000" y="20520"/>
            <a:ext cx="5364000" cy="686772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8T19:22:35Z</dcterms:created>
  <dc:creator>iman</dc:creator>
  <dc:description/>
  <dc:language>en-US</dc:language>
  <cp:lastModifiedBy>Novin Pendar</cp:lastModifiedBy>
  <dcterms:modified xsi:type="dcterms:W3CDTF">2020-04-05T18:52:24Z</dcterms:modified>
  <cp:revision>635</cp:revision>
  <dc:subject/>
  <dc:title>Slide 1</dc:title>
</cp:coreProperties>
</file>