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FA48-FC26-4487-A739-BB2EFD788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0DC1-743B-4036-9C3F-A62AE0D7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7D2F-B3DF-411E-997B-CFB4BCD77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F5C0-76BA-41BB-8A02-45C76D6B1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4B26-6DC6-4038-A242-9A7962B96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1B95-8220-4589-8EA1-ABA174E2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54E1-8A6F-460C-A0EA-6D71C5A0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6F1C-FCF9-446A-BFC3-BD9EAE05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2D39-2947-4D77-936E-846F5C60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F036-36C2-4EE9-8CF0-F1938BA8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026D0-8A69-41FE-8CEE-3052252E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5B58-D434-4766-AF94-39137502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56EB-E4CB-43E6-A4F7-EFD12AA4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D6BD-5697-496F-BB6D-FD58BE3E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40017-E855-44F7-B528-EDBA3D5B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FD4E-05C1-4888-84DA-4BA8ADCC8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761F-AC59-4074-BCFB-05255EA3D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56D44F-2E07-4006-9987-F6F514888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30E046-2C42-4F78-B907-8DA87D61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49E9EC-BA32-4045-A8E6-18B4A261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D93EDD-AD5D-433B-9D98-6E38E7D9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FB206C-426C-4052-BF48-91229C4C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0E47-14A1-48C1-86E8-95782939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680AB2-69CF-4167-A717-1D626250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775448-60FE-4743-942F-4B7363BF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98A131-50FB-493F-8D7E-B700F52F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C69256-CC4B-499C-9D52-5FB1681C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9EB6CA-C055-41F5-AE57-5AC559BD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F3D6F5-00AF-4863-AF6E-A47635BB0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9988DB-18BF-4E79-9B31-F7B8AC2B0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0EFB0-D54B-4162-94F7-2EAF183C2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D6685-D3F2-4C2E-8112-A36ACAA1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5FA0B-C52E-42CD-8F9A-F8BAB78A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9CCE-8AAC-4198-B436-12F1F95D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5515E-2BB2-4A20-9738-1F7AF097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48DA4-03CA-4ABA-872E-522AD2DB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123D9-F00D-4DA9-9A2E-5F9670EC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24AF3-8BA6-43FA-9AAF-A28382CE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EB20F-C094-45C9-AE65-ED250317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A594F-7AD7-42F1-B86F-7156CBFD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1CC66-89D9-483C-9C3F-133E703A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194DF-F1C9-4DB2-A917-3436BBC23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961A9-AA06-4E96-BBCB-BA1B63E21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ADEECA-BB1F-4513-80DB-A2529C2BD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681D-BD9A-4CB8-B6CC-05E26187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D82AA2-9B87-4A8B-A3B4-E688AD7F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206990-EB3A-4378-A379-78425F43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C8A126-C0DB-44AB-9E1C-E80F849D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DD5EC4-C45F-4EF2-9B84-A7AF397D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C54485-4001-4870-9C23-436A68C5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BB11FF-3948-411F-9B71-DBC2B90E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5EF9B3-1190-4381-ACED-1978CBD3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D835E5-328B-4110-AA7F-267E373F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8EC5C4-241C-4FF5-A2C6-0B575889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7D76F9-6C88-4019-A7C5-7A713DA2B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AF5B-F5E1-4145-B047-CBE92908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8EB9A3-8506-4088-902B-96273CD9B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A710A6-6683-4F9F-A2C1-16BFF7F7F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87DF85-7D1D-455A-B193-B1CBCA5D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FE4A4D-291E-458F-884C-01621D0E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722BB0-9B26-4A66-9134-E841345C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B39333-D0FA-4F37-BB64-B54A085B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33D72F-390E-4DF8-A420-5C2FF193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C92873-E56E-49DB-A91D-3EBF949E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DE7879-4134-45CD-AF69-498AEC46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A6263A-AF2C-406E-A266-56A556E6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E5CC-2DE3-4127-898D-915532AE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7C5579-B102-4113-8AE2-5F83712B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CA4409-2A2A-4A3A-8871-CB809C27B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61A9CB-0AE8-4356-B801-71538462C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96EB6A-F681-4E3A-AA26-8C3256F7A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6E6940-A4F3-4978-816D-3CED3813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5AF97C-F102-43C7-B116-FB23B5DC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49BF30-BB4F-437D-9559-04AC4F0E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D40849-0DAC-4C00-8085-3CBFD998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6F5FDA-2EE8-4EC8-8BF2-C2103DC2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DE6FFC-1B3A-47C0-A732-C80DD12E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CEBC-E387-4096-AFFD-D3D1DB0B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818AF5-5F9A-4066-864B-DA9F2E4B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5B3C84-C164-4DFA-B132-785AA0B2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ED9C3C-FAD2-4AFE-80EF-7348176D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ADCD1D-869D-45E1-A9FD-B864856EC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455C96-8009-4070-8EF2-1A2D7324D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2B33-0F17-4075-BDE0-FA6E536C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C6FE-33F8-4FE2-8A4A-B26545CE58AF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1154-70B7-44B3-8440-FBCC64D93E9A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3504-0155-4E74-B2E9-F367981F4194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731E-E32A-430C-89FA-B1A887541842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55F8-DA00-495D-A38B-C5221E9DA791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DF55-D253-4193-A732-7B44E49E28B9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098D-D408-4009-9BDD-8AE75D3FFE0D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Oval 21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1835280" y="2133720"/>
            <a:ext cx="6769080" cy="75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جلسه سوم  آموزش مجازی</a:t>
            </a:r>
            <a:r>
              <a:rPr b="0" lang="fa-IR" sz="4400" spc="-1" strike="noStrike">
                <a:solidFill>
                  <a:srgbClr val="e46c0a"/>
                </a:solidFill>
                <a:latin typeface="Calibri"/>
                <a:ea typeface="IranNastaliq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عنوان درس: عناصر    و     جزئیات   ساختم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رشته: کاردانی پیوسته نقشه کشی معمار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مدرس: بهزاد آقاخان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شماره تماس جهت گروه واتس آپ:  </a:t>
            </a:r>
            <a:r>
              <a:rPr b="0" lang="fa-IR" sz="4400" spc="-1" strike="noStrike">
                <a:solidFill>
                  <a:srgbClr val="e46c0a"/>
                </a:solidFill>
                <a:latin typeface="Calibri"/>
                <a:ea typeface="IranNastaliq"/>
              </a:rPr>
              <a:t>093732577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3995640" y="-100080"/>
            <a:ext cx="172404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46c0a"/>
                </a:solidFill>
                <a:latin typeface="Calibri"/>
                <a:cs typeface="IranNastaliq"/>
              </a:rPr>
              <a:t>به نام خد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5665680" y="754200"/>
            <a:ext cx="309744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558ed5"/>
                </a:solidFill>
                <a:latin typeface="Calibri"/>
                <a:cs typeface="IranNastaliq"/>
              </a:rPr>
              <a:t>دانشکده فنی و حرفه ای پسران چمران اهوا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5" descr="C:\Users\Novin Pendar\Desktop\آرم دانشکده.JPG"/>
          <p:cNvPicPr/>
          <p:nvPr/>
        </p:nvPicPr>
        <p:blipFill>
          <a:blip r:embed="rId1"/>
          <a:stretch/>
        </p:blipFill>
        <p:spPr>
          <a:xfrm>
            <a:off x="1763640" y="620640"/>
            <a:ext cx="27720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" descr="E:\E\دانشکده چمران\98\ترم دوم\عناصر و جزئیات\New Doc ۲۰۲۰-۰۴-۰۴_15.jpg"/>
          <p:cNvPicPr/>
          <p:nvPr/>
        </p:nvPicPr>
        <p:blipFill>
          <a:blip r:embed="rId1"/>
          <a:stretch/>
        </p:blipFill>
        <p:spPr>
          <a:xfrm>
            <a:off x="3492360" y="0"/>
            <a:ext cx="56451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E:\E\دانشکده چمران\98\ترم دوم\عناصر و جزئیات\New Doc ۲۰۲۰-۰۴-۰۴_16.jpg"/>
          <p:cNvPicPr/>
          <p:nvPr/>
        </p:nvPicPr>
        <p:blipFill>
          <a:blip r:embed="rId1"/>
          <a:stretch/>
        </p:blipFill>
        <p:spPr>
          <a:xfrm>
            <a:off x="3492360" y="15840"/>
            <a:ext cx="5651640" cy="681192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2" descr="E:\E\دانشکده چمران\98\ترم دوم\عناصر و جزئیات\New Doc ۲۰۲۰-۰۴-۰۴_17.jpg"/>
          <p:cNvPicPr/>
          <p:nvPr/>
        </p:nvPicPr>
        <p:blipFill>
          <a:blip r:embed="rId1"/>
          <a:stretch/>
        </p:blipFill>
        <p:spPr>
          <a:xfrm>
            <a:off x="3780000" y="15840"/>
            <a:ext cx="5364000" cy="686592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2" descr="E:\E\دانشکده چمران\98\ترم دوم\عناصر و جزئیات\New Doc ۲۰۲۰-۰۴-۰۴_18.jpg"/>
          <p:cNvPicPr/>
          <p:nvPr/>
        </p:nvPicPr>
        <p:blipFill>
          <a:blip r:embed="rId1"/>
          <a:stretch/>
        </p:blipFill>
        <p:spPr>
          <a:xfrm>
            <a:off x="3492360" y="7920"/>
            <a:ext cx="5437440" cy="69357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2" descr="E:\E\دانشکده چمران\98\ترم دوم\عناصر و جزئیات\New Doc ۲۰۲۰-۰۴-۰۴_19.jpg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738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2" descr="E:\E\دانشکده چمران\98\ترم دوم\عناصر و جزئیات\New Doc ۲۰۲۰-۰۴-۰۴_20.jpg"/>
          <p:cNvPicPr/>
          <p:nvPr/>
        </p:nvPicPr>
        <p:blipFill>
          <a:blip r:embed="rId1"/>
          <a:stretch/>
        </p:blipFill>
        <p:spPr>
          <a:xfrm>
            <a:off x="3276720" y="0"/>
            <a:ext cx="5753160" cy="68961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9:22:35Z</dcterms:created>
  <dc:creator>iman</dc:creator>
  <dc:description/>
  <dc:language>en-US</dc:language>
  <cp:lastModifiedBy>Novin Pendar</cp:lastModifiedBy>
  <dcterms:modified xsi:type="dcterms:W3CDTF">2020-04-05T19:09:07Z</dcterms:modified>
  <cp:revision>633</cp:revision>
  <dc:subject/>
  <dc:title>Slide 1</dc:title>
</cp:coreProperties>
</file>