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673-73BC-4956-9EAA-85E1550E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146-38C2-4DE1-B316-D17BB17F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C92-F584-42E4-92B2-410E7971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9BB-437C-4A7F-8616-6A6ABEF2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48DD-6ABC-4CBF-9B83-9CFAD241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B628-93F8-4EFD-8A89-DEA9D1F4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FEE8-A137-434C-878C-4FAB0123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1E15-C90B-47A4-B261-3CC0CF8F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01B0-EF47-401A-BDA8-F908C7A1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9934-F195-4823-952E-81BCA5F4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4CEF-A47B-4A35-85B3-BB68085C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CF2-5587-495F-ADAB-EF8BA00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9E51-EE17-4E13-AD3D-BA2860CC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3A9B-6179-48FE-A668-C74606B8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ABFD-94BF-485A-BAC1-CD8E5A5C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B25C-EF02-40DB-98B0-FE077F4B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34C-8F08-44B2-9103-331238F0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B896C-04AA-4F27-88E1-8D5CC97F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BC417-7E9B-458D-ABAD-65CFE451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F4C0C-FCE4-4953-A445-68A71CC8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84F5F-6411-4419-8102-70C5D560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31632-B93B-47B3-965A-1570BE54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AB4-0B36-43DF-B797-E3A7B90F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9AB6D-A3A0-4C19-9368-E3ADD1FA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EE7B4-73AB-44ED-88B2-EF81D043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2A554-0618-45A8-8A88-6556559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B5B1F-3B78-4298-96DF-15DF5BCE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639CA-EDD1-4A52-8141-A8010B0B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686B-8860-4ECB-8CE2-5A1F9005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B5C71-DE45-419F-ABCB-DE762051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CDC5-7EBC-4577-A842-CD0EAA8E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7135-DF29-411E-AB9F-7B831DC5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B421-E983-463F-949A-EBA6B61F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DF4-3DEB-4F39-9C4C-2DE493E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EF9FF-D7F2-4C8F-BF81-3700E5C8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9413-0C8E-412E-96E5-94FE8513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2C308-0530-467A-8C54-2D5470C2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1AF3-2FCA-44A9-8D3B-3A1C40F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BF55-7AFD-49B0-97ED-A3A121B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2A23-2939-44E8-AD43-A888704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416F-19BE-4B8C-BCC9-0F705EF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BEE4-8242-4C57-9AB7-AB80F4AE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F3EAD-28F6-4251-A3C0-5678C138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A79A1-7ABA-47D0-BF06-2FB3D1E9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5B8-55DA-46A5-A797-09843A3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FB7BF-3904-4F7E-BD0F-DC05CC8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3739D-5F4D-43ED-B704-D8053BC6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FFEBE-D111-49AB-A620-997CCACA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51AC0-BCB5-4116-BEB8-0343564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6228C-3A7E-4DFB-B55C-DC4B9D6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4D248-D968-4104-AF94-061B98F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E2416-0E7E-41BA-935C-76548FE7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5171F-E6E4-4871-B6FE-BC5E47F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21FD8-5955-4AF9-9DC1-4B5ACA4E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6B77D-7AE3-4756-8C53-7ED45871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35E-A59D-4384-8890-324DAF26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92B65-BA3B-4DDC-818E-5BC73573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AE717-78A7-4ADD-A149-A0FE75E5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8DF37-1EFF-4DB9-9333-CCA5CD8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A64F5-8177-4773-AD39-97F7E0B5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E7007-45ED-4976-9E39-EC711688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AAD5B-E90B-42B1-85FC-F3623748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BE6DB-15AF-4DA6-8AD9-AD59D68C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2F583-8A7E-4715-8F43-A0A2C72F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12DC9-F006-480E-B320-D804EB8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FCB1F-F6D7-49F9-B193-05AACCA5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5F4-9B45-48C6-8C62-983F556C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5A2EE-2EDF-4918-8ED0-B7EC0CE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E329C-80E5-4586-9D5B-D286AAE0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278B9-F82F-4A57-81C3-4F51B116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339A3D-09B8-4FF6-9B1F-CE692C72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25AD4-8550-4009-951F-8A64DB3D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2A7B7-0721-43B5-AA46-8414EEC1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B365E-3884-46BD-B09A-D2818ED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E2D1D-D8EC-49B8-BFC1-F9C2C6AA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3025E-3035-4105-8BAB-638192EC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02196-525A-4398-A361-112B9DA6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449-A73E-44A3-888B-83339DFD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414312-E8C6-4048-9F8E-96499C6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EAF47-5EE0-4A18-B5BF-219CEC2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856AD-297F-4681-AFDC-B7A8C0F0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269B0-08E5-4BE8-A242-D352194A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7065F-4446-4538-87E9-A250EC1F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8CA-B4DA-4A5E-BB10-B43B2AF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B678-2224-4FDC-9299-A16BB769ABFB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70C-0916-49F1-A387-A0997CA6297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D982-F402-4CF0-A72C-916EAE794D65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B334-F900-403D-8FA7-5AE52E749E4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A61F-0CB9-46DB-A37C-D381715391E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EE89-1B72-4AD0-BFC2-C9589667ACE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078B-D633-4CD0-9CCF-9A25BBE334D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سوم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15.jpg"/>
          <p:cNvPicPr/>
          <p:nvPr/>
        </p:nvPicPr>
        <p:blipFill>
          <a:blip r:embed="rId1"/>
          <a:stretch/>
        </p:blipFill>
        <p:spPr>
          <a:xfrm>
            <a:off x="3492360" y="0"/>
            <a:ext cx="56451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16.jpg"/>
          <p:cNvPicPr/>
          <p:nvPr/>
        </p:nvPicPr>
        <p:blipFill>
          <a:blip r:embed="rId1"/>
          <a:stretch/>
        </p:blipFill>
        <p:spPr>
          <a:xfrm>
            <a:off x="3492360" y="15840"/>
            <a:ext cx="5651640" cy="6811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7.jpg"/>
          <p:cNvPicPr/>
          <p:nvPr/>
        </p:nvPicPr>
        <p:blipFill>
          <a:blip r:embed="rId1"/>
          <a:stretch/>
        </p:blipFill>
        <p:spPr>
          <a:xfrm>
            <a:off x="3780000" y="15840"/>
            <a:ext cx="5364000" cy="68659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8.jpg"/>
          <p:cNvPicPr/>
          <p:nvPr/>
        </p:nvPicPr>
        <p:blipFill>
          <a:blip r:embed="rId1"/>
          <a:stretch/>
        </p:blipFill>
        <p:spPr>
          <a:xfrm>
            <a:off x="3492360" y="7920"/>
            <a:ext cx="5437440" cy="69357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9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20.jpg"/>
          <p:cNvPicPr/>
          <p:nvPr/>
        </p:nvPicPr>
        <p:blipFill>
          <a:blip r:embed="rId1"/>
          <a:stretch/>
        </p:blipFill>
        <p:spPr>
          <a:xfrm>
            <a:off x="3276720" y="0"/>
            <a:ext cx="5753160" cy="68961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9:09:07Z</dcterms:modified>
  <cp:revision>633</cp:revision>
  <dc:subject/>
  <dc:title>Slide 1</dc:title>
</cp:coreProperties>
</file>