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BE5A-D73E-462C-A96B-5BBEA731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0351-FA04-4223-8232-45591C2C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D07B-F654-4CB8-8C61-D1416EFAB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839A-4226-47B6-A22A-87F56F1C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5287-424F-4798-A63E-34D5ECB7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62CE-AC93-4061-A1F3-2D607FCC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BEA1-EF05-4009-B08A-FEB47FA4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540F-05C8-4302-82F8-97E15D91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3087-800E-43CB-97C1-A9051B01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BB63-C6CF-40E1-947F-A3EEB755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3929-B93F-4BCF-8019-B10C36AB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AE5F-2BC0-43C2-A6A6-7B746AAB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0FAE-AEA3-432D-B151-4A54CF31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B474-FE52-4642-AF80-4F6BC121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0D96-9090-4DAD-B2C9-7E4C9CE0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0650-8A94-4AC9-B7FD-53BE1245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3ED9-DA47-4EA2-B8B5-6B53BCDD9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257B4F-6FA5-4CF0-9A0F-D8055BBFC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38C6B6-98E1-4CCD-868F-DAF7DCD5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190590-025C-4682-A77A-E771185F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809308-05B8-4B8D-97D8-5F45AC9C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E4E2FB-D959-4052-BD34-C1592D4B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E5B2-C07B-413D-B159-4B8702B7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747EA6-8A9F-4450-8EE0-8249002E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3F3DA7-5CC8-4A7D-B138-A37F7E02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F41443-DC1E-4FA1-8026-0C563669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AFA0E2-E5D2-4EAE-94A0-128F6768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7C09A7-66A7-4591-97F8-6D650A71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B0EC15-AFB9-4249-BB8B-3107B3C69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7D836F-1849-4100-BEC6-3659E57AE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775DF-C705-4527-B668-7EB916FC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BF8C3-55B9-4A66-BD5B-57B16DA7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945D2-D1C3-4344-A5AA-114D4A63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4C0A-1BF3-49F3-A032-889B606E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96B30-1F4B-438E-859B-0ED7CB54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3477B-4116-4719-86B6-6C053387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FCD1E-A97E-44FD-8A56-87A0B3F4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AA087-B684-4112-8F58-4FD64E44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57825-28E5-4602-93F5-A8E4FE50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93C53-17E3-4A9E-99E6-DCC1E5D8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85076-FB01-4B16-B550-66DA2F93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F6778-B3B6-4B3B-9141-2074B5B3A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F8C76-99EE-40A5-9080-4D018805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8C4C24-6A6B-45C9-A678-628ED317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F236-DF56-4285-96DD-5060800D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738D11-FC81-40CC-A442-39E86E86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5D406D-6288-4C24-96FA-BECD29D9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7021BA-99CE-4E7C-9717-E5C0A300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A15234-C646-43A7-936B-AD468907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678954-B1AD-4712-A1AC-9C99F3E1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F6005E-F524-4020-8AC4-D14DE2C6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A6EC13-1876-4952-8B00-95ABF6FA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E6FDB4-407A-4261-8AA1-7536ABDD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CBC9CD-53D0-4BC9-912F-FBED0177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16BC83-BFB3-4124-B296-7F13B7456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3C63-7FF0-4F99-AA43-AB4AD5BA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1C0707-89D2-4E22-901D-40EE34C18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F3FF38-BEBD-4B55-8AC2-1D91C43C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7D0DBC-41C1-40F5-8934-278C15BE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3357F6-219E-4E8E-97B2-29203034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76B0A6-AD27-4D67-A81E-37CF2C82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5A28DB-9E3D-4E1B-8C98-4D504794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79B63A-8782-4B33-9814-45175E61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E7B72A-32A4-4D3A-9CFE-08F09007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297CA8-C1EC-4C1E-A50C-863709E7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D99318-3AB0-4114-B3CA-417D42D8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EFE2-9E54-4092-8B74-0A4A918A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E5D2FE-863D-4ACB-89E9-4BA62FBA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A37FFE-195A-453D-B02E-792F8CF37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CE830B-ABE9-4213-BB44-827E98D4B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1F2B6A-9973-4C18-B3EF-9B204ED56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E9918A-02D6-4924-9284-B740896D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9B2B12-EE14-4DF6-BE5A-5586BA6C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7C195B-31F2-4A90-A0CF-D8C653BF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5683C7-0418-4318-A4DD-FD3D3279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1AAAEE-297A-4079-A84F-E87E0592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71A599-E461-42BE-B9A6-7C242D49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A44F-D7F0-4514-9659-89B6D7AE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D7607B-925A-4F98-9ADB-CDAC8DF5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B95689-B412-45B2-8140-A9E6213C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3BA7CC-7E14-4CF2-82F6-9796D3A5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622879-586C-4E6A-926B-94F5B6C69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91F489-F665-4E0C-80F7-837BC283F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6CDB-9EAE-402E-8615-A7605029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DFBD-B7EA-482F-908E-8D176B8B7BB1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80E3-5E2F-4509-AFE8-068653A2C6D7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06BC-6B96-4BEC-ABF7-415297A676F5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C7A0-1681-4CCB-93F9-8FADAEEEA66D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CFC4-9F99-4DEA-B4A1-350D364838B8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A5B3-E288-4196-9626-4264F23DA404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211F-9B9B-49C1-9DCF-A212DF6D12DD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Oval 21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1835280" y="2133720"/>
            <a:ext cx="6769080" cy="83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جلسه  چهارم   آموزش مجازی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عنوان درس: عناصر    و     جزئیات   ساختم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رشته: کاردانی پیوسته نقشه کشی معمار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مدرس: بهزاد آقاخان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شماره تماس جهت گروه واتس آپ:  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093732577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3995640" y="-100080"/>
            <a:ext cx="172404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46c0a"/>
                </a:solidFill>
                <a:latin typeface="Calibri"/>
                <a:cs typeface="IranNastaliq"/>
              </a:rPr>
              <a:t>به نام خد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5665680" y="754200"/>
            <a:ext cx="309744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558ed5"/>
                </a:solidFill>
                <a:latin typeface="Calibri"/>
                <a:cs typeface="IranNastaliq"/>
              </a:rPr>
              <a:t>دانشکده فنی و حرفه ای پسران چمران اهوا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C:\Users\Novin Pendar\Desktop\آرم دانشکده.JPG"/>
          <p:cNvPicPr/>
          <p:nvPr/>
        </p:nvPicPr>
        <p:blipFill>
          <a:blip r:embed="rId1"/>
          <a:stretch/>
        </p:blipFill>
        <p:spPr>
          <a:xfrm>
            <a:off x="1763640" y="620640"/>
            <a:ext cx="27720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E:\E\دانشکده چمران\98\ترم دوم\عناصر و جزئیات\New Doc ۲۰۲۰-۰۴-۰۴_21.jpg"/>
          <p:cNvPicPr/>
          <p:nvPr/>
        </p:nvPicPr>
        <p:blipFill>
          <a:blip r:embed="rId1"/>
          <a:stretch/>
        </p:blipFill>
        <p:spPr>
          <a:xfrm>
            <a:off x="3419640" y="0"/>
            <a:ext cx="5709960" cy="69422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3" descr="E:\E\دانشکده چمران\98\ترم دوم\عناصر و جزئیات\New Doc ۲۰۲۰-۰۴-۰۴_22.jpg"/>
          <p:cNvPicPr/>
          <p:nvPr/>
        </p:nvPicPr>
        <p:blipFill>
          <a:blip r:embed="rId1"/>
          <a:stretch/>
        </p:blipFill>
        <p:spPr>
          <a:xfrm>
            <a:off x="3851280" y="0"/>
            <a:ext cx="5261040" cy="69073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3" descr="E:\E\دانشکده چمران\98\ترم دوم\عناصر و جزئیات\New Doc ۲۰۲۰-۰۴-۰۴_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3" descr="E:\E\دانشکده چمران\98\ترم دوم\عناصر و جزئیات\New Doc ۲۰۲۰-۰۴-۰۴_24.jpg"/>
          <p:cNvPicPr/>
          <p:nvPr/>
        </p:nvPicPr>
        <p:blipFill>
          <a:blip r:embed="rId1"/>
          <a:stretch/>
        </p:blipFill>
        <p:spPr>
          <a:xfrm>
            <a:off x="3564000" y="0"/>
            <a:ext cx="5580000" cy="69213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E:\E\دانشکده چمران\98\ترم دوم\عناصر و جزئیات\New Doc ۲۰۲۰-۰۴-۰۴_25.jpg"/>
          <p:cNvPicPr/>
          <p:nvPr/>
        </p:nvPicPr>
        <p:blipFill>
          <a:blip r:embed="rId1"/>
          <a:stretch/>
        </p:blipFill>
        <p:spPr>
          <a:xfrm>
            <a:off x="3780000" y="11160"/>
            <a:ext cx="5332320" cy="68310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4" descr="E:\E\دانشکده چمران\98\ترم دوم\عناصر و جزئیات\New Doc ۲۰۲۰-۰۴-۰۴_26.jpg"/>
          <p:cNvPicPr/>
          <p:nvPr/>
        </p:nvPicPr>
        <p:blipFill>
          <a:blip r:embed="rId1"/>
          <a:stretch/>
        </p:blipFill>
        <p:spPr>
          <a:xfrm>
            <a:off x="3708360" y="0"/>
            <a:ext cx="5400720" cy="69310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3" descr="E:\E\دانشکده چمران\98\ترم دوم\عناصر و جزئیات\New Doc ۲۰۲۰-۰۴-۰۴_27.jpg"/>
          <p:cNvPicPr/>
          <p:nvPr/>
        </p:nvPicPr>
        <p:blipFill>
          <a:blip r:embed="rId1"/>
          <a:stretch/>
        </p:blipFill>
        <p:spPr>
          <a:xfrm>
            <a:off x="3348000" y="0"/>
            <a:ext cx="5796000" cy="75423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9:22:35Z</dcterms:created>
  <dc:creator>iman</dc:creator>
  <dc:description/>
  <dc:language>en-US</dc:language>
  <cp:lastModifiedBy>Novin Pendar</cp:lastModifiedBy>
  <dcterms:modified xsi:type="dcterms:W3CDTF">2020-04-06T15:28:46Z</dcterms:modified>
  <cp:revision>636</cp:revision>
  <dc:subject/>
  <dc:title>Slide 1</dc:title>
</cp:coreProperties>
</file>