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E11-1603-4F8B-9885-CBFDCCDB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2DD-15C0-4F7A-89C6-DC0EFC11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3BC-5D9D-4369-A1AA-2A13BD5C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257-5BC6-4836-AF5C-2FE43DED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205E-F4C9-4377-B216-1A8F9585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F73B-E366-48F0-A8D2-F349667C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A819-9DAB-47E4-8C4B-5366B7C4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CAFE-46C9-42F6-AA2B-B176D0FC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A1F5-72F2-4552-A8CD-371C4EC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5AC8-24B9-49F0-AABC-37FD38E3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4768-EAF0-48D5-921A-0DA0601E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1A9-6ED0-4C3E-B347-58669C2B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865B-AFAF-420C-A714-678C5F1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489-1577-46C7-A0AB-D149658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1DA4-FCFA-41D8-AC7E-10ABAB74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AC2-1911-4628-9A14-D0443BF9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95ED-47F5-4F71-A51C-E9ECA8E0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86BCA-3CDB-4ED3-8D00-073073F7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DAC51-ACEE-43BC-B98D-C603D281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4050E-BB52-466A-8A4F-24908203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63618-5A0E-454F-9453-DEA8E161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97C45-2FDB-427A-A5C7-784AE9CE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31F-37A6-4443-B02C-A73ED6E0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F8CD9-4C44-4D2D-A1BE-1E9497C8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A6C52-557B-489C-AC89-144D48C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01BFE-09CA-4205-AE2E-533C880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54DD5-9753-4468-AB77-C60109E1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EBC79-11D6-4D0E-B8C4-08DC8058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260C0-FFE8-4545-9A95-BB255B20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2FC49-2EEB-4D04-A8D7-5F10EDCA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552A-E7DC-4E2A-9BE7-000004FC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90AA-F070-4056-A573-26D7FFDA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621AA-FBE9-4F27-9CCC-35E327C7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BE6-ACA5-46D0-B327-00BE19A2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FEBB-1E80-4341-80B4-6B840C60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BC003-79CA-4B6D-890A-40626167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78BB9-AE3B-4303-B9BD-211B38E1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221E-63E0-4E08-920C-06BD71B0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78D9-9BA2-44AA-BB68-CFA2FA3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77EB-5E76-42B3-85F7-07A57E3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4B06-5C28-477E-B118-914AAF28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1272D-1E57-4014-AB07-6A00D630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E9278-D0F4-4BF0-9129-D364117A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9643E-22F1-4824-8D4D-3839AD5C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348-2984-4121-A51C-4AA29DF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87702-5B58-4507-A3E0-FD82A547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834E5-B04E-42AE-9775-E6A7742A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DAEBE-CE02-4E49-A528-23327419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23F52-75C5-40E5-9131-43295D5B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AFB96-1009-4CC6-A9D9-BC924090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7FF17-0CED-4C80-91C3-05660419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FB278-F4B0-4AD4-A1D6-9DC29D4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81CC5-8709-4117-B2C1-EA18834E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81CCC-1DF8-41DC-95A9-90862782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71440-E49A-4329-8089-6BF08430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CAF-3F6F-4BA8-85FD-6E126EA3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7D624-BECF-49AD-A7EB-1D3B4E19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A149E-C6B7-4492-A82E-E9BBB17A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DE313-82F0-4371-B502-504EB6F2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A911A-37C3-4738-9922-99D5F890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7EEDC-929B-4092-AF12-A1B9E2D0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0FF77-B0C1-4D80-85D8-C382CFB7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37473-F6EA-4E1F-8C25-431E17A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77A5A-100A-4A07-B803-771D022C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ABC7B-6382-40EB-821A-793C69E6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62551-8923-495A-8D44-4C11AD3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A49-6117-49E7-9D78-2B5F132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305AF-51A0-450F-9812-BC57DE0F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11680-4950-40A6-91BA-369C29C5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1769B-BBE2-4DFF-BB5D-363279D3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53F94-3D23-48A2-8FDD-C9F70F44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3FAE2-E488-4EDF-9B1B-06008A60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DF7B6-B02D-4EFE-846F-7AF5D8C9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BF56A-73D1-40D8-AD33-30803AAB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FF08A-C56E-4CA7-B11A-8A164871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94EEC-0ED9-4245-8FEA-7D6FF59E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B5765-B38D-4407-A729-5C79F965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7A9-89E7-4D38-B620-7D417F77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3174E-175D-4FD5-B8B0-CE35A0A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7F8F7-028E-422F-9578-7B24540E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4B2F1-98FC-4164-9776-C5DF56B8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C8CE0-5C00-4E2D-9AB7-DFCA77A7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F9736D-6D84-4B3D-9F7A-9827B977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317-8EE4-40B9-8585-84C8E0D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B94C-3316-4917-8F5A-70AD9550CC4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653C-436B-4D59-94D3-1E975354A9C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F25D-2FD9-4D3B-A55A-D9167C87741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D8CC-8781-4052-A32E-7016B599523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D028-D0DF-40B6-AAED-0CC1184A28A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E371-D799-4A81-A9F8-AA0582DD948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BCCE-D391-4066-ADAC-34BAAFD93B1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چهارم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1.jpg"/>
          <p:cNvPicPr/>
          <p:nvPr/>
        </p:nvPicPr>
        <p:blipFill>
          <a:blip r:embed="rId1"/>
          <a:stretch/>
        </p:blipFill>
        <p:spPr>
          <a:xfrm>
            <a:off x="3419640" y="0"/>
            <a:ext cx="570996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E:\E\دانشکده چمران\98\ترم دوم\عناصر و جزئیات\New Doc ۲۰۲۰-۰۴-۰۴_22.jpg"/>
          <p:cNvPicPr/>
          <p:nvPr/>
        </p:nvPicPr>
        <p:blipFill>
          <a:blip r:embed="rId1"/>
          <a:stretch/>
        </p:blipFill>
        <p:spPr>
          <a:xfrm>
            <a:off x="3851280" y="0"/>
            <a:ext cx="526104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E:\E\دانشکده چمران\98\ترم دوم\عناصر و جزئیات\New Doc ۲۰۲۰-۰۴-۰۴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E:\E\دانشکده چمران\98\ترم دوم\عناصر و جزئیات\New Doc ۲۰۲۰-۰۴-۰۴_24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E:\E\دانشکده چمران\98\ترم دوم\عناصر و جزئیات\New Doc ۲۰۲۰-۰۴-۰۴_25.jpg"/>
          <p:cNvPicPr/>
          <p:nvPr/>
        </p:nvPicPr>
        <p:blipFill>
          <a:blip r:embed="rId1"/>
          <a:stretch/>
        </p:blipFill>
        <p:spPr>
          <a:xfrm>
            <a:off x="3780000" y="11160"/>
            <a:ext cx="5332320" cy="683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E:\E\دانشکده چمران\98\ترم دوم\عناصر و جزئیات\New Doc ۲۰۲۰-۰۴-۰۴_26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E:\E\دانشکده چمران\98\ترم دوم\عناصر و جزئیات\New Doc ۲۰۲۰-۰۴-۰۴_27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754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28:46Z</dcterms:modified>
  <cp:revision>636</cp:revision>
  <dc:subject/>
  <dc:title>Slide 1</dc:title>
</cp:coreProperties>
</file>