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A095-2C84-4004-9934-532C4F35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64F-9368-4D6E-A553-A8516F8B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5A29-436A-4C4F-B372-CA3B6837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6865-711A-4AB3-8C32-A341854E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1106-20D8-407F-B36D-040226DA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8E56-400C-4052-B41C-4BDEEBDB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3143-1571-4509-90F0-D2BE6866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48C9-626D-4FE2-852D-91E57D12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F2FE-ADD0-45C1-8FDE-DC6853E9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56CA-B389-4711-A1CA-DF3AB744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F9D4-135C-4341-A8DD-5DAA4B65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0998-BC22-463C-BDCA-70506D17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1661-42D7-4B88-A2F0-CBA05475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4F2E-2DDA-47FB-8CAB-F4811FED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F988-B7E7-4E31-AD4B-E3636EB1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F7C5-8B9D-429C-AACD-39E7166C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F2AA-AEA6-4C39-A872-81799F578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21FEBC-5740-4D3A-93CC-7022D879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DB404F-8D58-4BC6-8B0D-853862BE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562D5-2FFC-42DF-9126-DA966AF8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5BDE79-919D-4002-A0D2-AC6B6683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B7CDB1-AF80-4D6E-A883-0B393D28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FC60-8B37-4718-83B4-19F87E8A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F83C0-98AF-4267-A52D-0D2DC6A7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73D50A-E776-4D4C-9442-A6C09FC2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D101EF-FF33-42DF-979C-95544DAD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764417-DFB9-43BE-93E8-8F08FA68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B3912-261E-4A7C-AEDD-840EF5C8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FE66A4-1BAD-4855-A81E-718F625F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C614A2-9D2C-4543-8C1C-8654C077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0CB24-F659-4451-84E0-9AF685D4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E56DD-FC68-4C4D-81CE-132A44F6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9D9C5-02E1-483C-9860-6F00EDAA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93B3-6E3E-44A2-8980-B1D843D8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BB9AC-4832-4B3A-A293-25D0D5E7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FB176-6129-45CC-9686-D79435B3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188C3-E8A1-44AB-A07F-BEC0650C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F686C-0243-4D1C-9238-02CF9436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A82BF-4DC4-4B13-A74F-704A8AA1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72655-F816-4436-BBDD-CD83E1FA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112D7-7CFD-47D5-A43D-66C6F12C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2DFBF-435B-4C87-8636-FC1E58E8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EE128-6B72-4B16-A3E1-3E6A19839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5B724E-9CA6-49DD-8CA0-7D7EE814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5932-CFF6-4955-8F42-882EB53B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8AA07F-CA68-47A8-AD00-C14FD54D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1A8AEE-3204-4C09-8C65-D0AB8998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4EF7B6-25CC-442E-AC55-EBDD5A4C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9E7666-44BF-4127-B7DA-4914B8E7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E1458F-0161-4808-A214-012C2F19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5FC093-1C7D-4CFD-B6D9-F82AE424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3E86FB-4F80-4D9C-82E6-5FFC59B6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AE1B68-C21B-4632-9F35-2E02C655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D0B3DA-797F-4CAB-AE55-8228C281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2D9C5B-0BC8-49B2-A709-B73203BE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33BE-AD6B-49F8-87FB-88621542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36FAFC-756F-412B-A582-62A099FE6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030113-3D6C-4F46-A8AB-76B1DBF1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27BA28-49AE-4F88-9C91-BC986028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493BA4-B939-4FAA-9B2E-1C0ACA46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63385C-606F-4F3C-BDAA-5D19CB0E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C555A0-31F5-4CD3-B51F-E496A1F8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91FD02-F8E3-42C0-B76D-27D48345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DD8AAA-6C6B-4F2C-B509-7825D456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CA668C-1D06-4411-AB8A-F9645C85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811644-E506-4B6F-BCCE-309D47FA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3485-1AF6-4E8D-BBD2-48A61FC9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3C3727-FCBC-41CF-A916-7FB551F6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5F8E23-9D94-421B-B286-2776CC9A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25BE88-5F80-41B5-96FE-17B4AEC5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1CA0F7-C6D6-4188-AE4D-ECF68643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1E8633-CEAA-480F-A767-0D9D790B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33E366-74FB-42E2-8D57-03B3033E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2431E4-E7EE-437B-AF3D-76614878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91B7D0-66AD-4598-AD7E-6B564223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D216F8-D139-4936-BA96-C9C89DB9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4FAE3B-29B2-481B-B264-573E19BF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2079-912B-494C-B40B-BE7D8C6B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2377A3-0D4E-43C6-BBF4-060E14F4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FC8CFA-5237-41FB-B53B-9AB5A3E5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F22DDD-6096-49EF-B4FA-58C3565F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9FFD32-9094-4A6F-92C0-FBFC5F5D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0F3EAE-330F-4509-8A77-67901F49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B1B9-36C4-452E-BB93-52CD36D3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BAD1-9624-4245-8991-29EB536A5973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481C-DEB9-4763-BEBB-76661C7AA99A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DF1B-2FEF-4A6F-B811-396AF5A232C9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A3D8-4085-494C-A873-63716A5A5443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E811-F191-40A0-9CE3-D3CDA02FE308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5BB4-3A64-4DCC-B9DA-8822DE608CD1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DAC8-DF27-46BB-A031-E27D7F7E39D0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835280" y="2133720"/>
            <a:ext cx="6769080" cy="83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 چهارم   آموزش مجازی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رشته: کاردانی پیوسته نقشه کشی مع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995640" y="-100080"/>
            <a:ext cx="17240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5665680" y="754200"/>
            <a:ext cx="3097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558ed5"/>
                </a:solidFill>
                <a:latin typeface="Calibri"/>
                <a:cs typeface="IranNastaliq"/>
              </a:rPr>
              <a:t>دانشکده فنی و حرفه ای پسران چمران اهو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C:\Users\Novin Pendar\Desktop\آرم دانشکده.JPG"/>
          <p:cNvPicPr/>
          <p:nvPr/>
        </p:nvPicPr>
        <p:blipFill>
          <a:blip r:embed="rId1"/>
          <a:stretch/>
        </p:blipFill>
        <p:spPr>
          <a:xfrm>
            <a:off x="1763640" y="620640"/>
            <a:ext cx="2772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E:\E\دانشکده چمران\98\ترم دوم\عناصر و جزئیات\New Doc ۲۰۲۰-۰۴-۰۴_21.jpg"/>
          <p:cNvPicPr/>
          <p:nvPr/>
        </p:nvPicPr>
        <p:blipFill>
          <a:blip r:embed="rId1"/>
          <a:stretch/>
        </p:blipFill>
        <p:spPr>
          <a:xfrm>
            <a:off x="3419640" y="0"/>
            <a:ext cx="5709960" cy="69422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3" descr="E:\E\دانشکده چمران\98\ترم دوم\عناصر و جزئیات\New Doc ۲۰۲۰-۰۴-۰۴_22.jpg"/>
          <p:cNvPicPr/>
          <p:nvPr/>
        </p:nvPicPr>
        <p:blipFill>
          <a:blip r:embed="rId1"/>
          <a:stretch/>
        </p:blipFill>
        <p:spPr>
          <a:xfrm>
            <a:off x="3851280" y="0"/>
            <a:ext cx="5261040" cy="69073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3" descr="E:\E\دانشکده چمران\98\ترم دوم\عناصر و جزئیات\New Doc ۲۰۲۰-۰۴-۰۴_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3" descr="E:\E\دانشکده چمران\98\ترم دوم\عناصر و جزئیات\New Doc ۲۰۲۰-۰۴-۰۴_24.jpg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69213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E:\E\دانشکده چمران\98\ترم دوم\عناصر و جزئیات\New Doc ۲۰۲۰-۰۴-۰۴_25.jpg"/>
          <p:cNvPicPr/>
          <p:nvPr/>
        </p:nvPicPr>
        <p:blipFill>
          <a:blip r:embed="rId1"/>
          <a:stretch/>
        </p:blipFill>
        <p:spPr>
          <a:xfrm>
            <a:off x="3780000" y="11160"/>
            <a:ext cx="5332320" cy="6831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" descr="E:\E\دانشکده چمران\98\ترم دوم\عناصر و جزئیات\New Doc ۲۰۲۰-۰۴-۰۴_26.jpg"/>
          <p:cNvPicPr/>
          <p:nvPr/>
        </p:nvPicPr>
        <p:blipFill>
          <a:blip r:embed="rId1"/>
          <a:stretch/>
        </p:blipFill>
        <p:spPr>
          <a:xfrm>
            <a:off x="3708360" y="0"/>
            <a:ext cx="5400720" cy="69310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" descr="E:\E\دانشکده چمران\98\ترم دوم\عناصر و جزئیات\New Doc ۲۰۲۰-۰۴-۰۴_27.jpg"/>
          <p:cNvPicPr/>
          <p:nvPr/>
        </p:nvPicPr>
        <p:blipFill>
          <a:blip r:embed="rId1"/>
          <a:stretch/>
        </p:blipFill>
        <p:spPr>
          <a:xfrm>
            <a:off x="3348000" y="0"/>
            <a:ext cx="5796000" cy="75423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6T15:28:46Z</dcterms:modified>
  <cp:revision>636</cp:revision>
  <dc:subject/>
  <dc:title>Slide 1</dc:title>
</cp:coreProperties>
</file>