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049-FA7D-4206-A978-B583ECCA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D8C-CBC3-4056-B105-6F92A6B6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A62-1A04-40F1-AA84-482ADFC3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869-B50A-4DDD-945A-8B3C72AB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5542-ED5F-47BB-AAE2-F90C8AD4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2B7E-8CE3-49DF-8D56-756D7CE0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32D6-D5FC-4A13-88CD-F6710D6C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A06A-1CF2-4EB1-9F26-30B5DFFA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9FDE-4359-41A5-992B-D8FC087F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44E9-45F2-4BB5-87AB-6385BA22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154A-6D0B-43C8-A767-09E5C527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D35-6966-4BA2-9AB1-B61F67D7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3506-AD22-4386-9ADD-31F8ACC2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D616-BC8F-49F3-ACDB-77E2DC0A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766B-8156-42AD-A0C5-056BA715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BDA1-6695-45F0-AEBB-AE1C9456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1F2A-6462-4D9B-AE9B-21CEAA96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C287A-A83B-42FF-B846-41502817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6378E-7A22-4A8B-8B00-4CBD877D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33300-828E-4E56-B4B4-B455C66D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164C3-5166-42B3-9F13-59A8BA9D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19BE2-DFD4-4921-B5EA-79BB0C3F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F01-E93E-4604-8182-CA9DA936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AC7AD-A169-43B2-8BF2-54AF24CB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6D367-63EA-4D63-ADF7-FD7D3242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D0435-DADB-46C2-BCE1-109A4006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CFB55-9A3D-46DA-8E7F-EAC75A60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1DCE4-0CE2-43D3-BAE3-1406DFDD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F5391-575F-4E59-BDB5-6E545BC3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37FE4-4502-45FE-9857-A0EBA8B1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E58A-C8C2-4C87-A0CD-FF062DB1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EEF9C-26A5-441B-B3E5-83992A34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78082-426F-4D5E-96C1-CC5C9106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623-C4E5-40B9-9B29-BFD35967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4FDDE-70D1-4222-998A-9324072E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DE35D-181A-44C0-A270-4B1EC615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B608C-D315-48A3-8A83-DEFCD966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584DE-9145-4B1C-A090-99E13B81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5FADE-BD74-42A6-AAC5-FBC6E756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DF0E-4C96-4B68-BA5A-21D047F2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7C3EF-9C2E-4237-95B4-03662BD8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73098-E893-4BFC-B892-8C46D30B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2DC2-A5A9-4D98-B344-0DA85879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E6F73-05FA-4532-B2C8-25780F1B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F1C-5AA4-4D4B-9171-0E5B61F6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97A31-54F0-480D-9610-6F4826DD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D7956-E6A6-4786-8E38-357DD415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3866F-0206-4521-860B-504CCB87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D724B-A829-4FDD-9B70-1660EA91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9F5BA-E882-4D6D-9F6D-A6279046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0E105-AE04-4076-BBCA-5DC655C4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FB4C9-48AA-4C35-812D-A330D0B4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CCCC4-CF91-47E4-B29F-BFAD0851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E650E-4CE6-45D3-A1B5-110E5684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47FF4-483F-47E3-A656-48E0858E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A40-4A03-4E62-BD26-35D15F45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FFF279-6FA1-43E6-87B3-349DA5C6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E5CDD-7C70-4CD2-88D7-C885C38E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78974-B2F5-43BB-A73F-BD267D53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05549-1E89-4749-8A4C-02253356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62016-D158-497A-B2CE-DCD0A421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0421D-07C4-4838-926A-174051A6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67A49-A89C-42EF-AA45-F42CD396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25275-3477-4401-BBAD-CBF862D1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1CBC9-228B-4E71-8F70-F8DEB61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98606-A27E-4064-B595-60484FA0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8A7-0869-4545-9CD9-3001F92C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AB233-024D-498F-9380-9564ED31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6ED11-F16A-4F2C-8D14-D7FECA7F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6A480-EC35-4D6D-BC19-E38A0E3C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5D1B3-8A6A-40AA-A183-23C87A46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00366-05E3-4FCB-98F4-8494EB62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7FF66-6CEB-4E1A-9EEC-E6540B83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C3DCF-1FFE-4616-A0C8-0EFC9A27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EE78D7-AE73-4BF4-BA5F-46AE1EBC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967A3-8447-418B-AA6A-20AB8448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B6CE5-00B9-4A4F-ABBB-B55B29E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AF5-FF78-402D-90B8-66869461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51A61-DA5A-447A-9DA8-5EE2C200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61586E-2E52-4F6A-8D14-1ED89F1A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A0BC3-BDF2-419B-9CAC-BD52BEE0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97B49C-2DAA-4CF4-BFC7-316AA171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004B1-2F17-4F3A-BA5C-AF66B1E6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49B-DAAC-499D-B23A-725BBB0E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A8A7-AC11-47D3-ADBA-094A67CCB3D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5F1D-63EC-4192-87D5-F625394A1CC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A33F-E956-4ED1-A377-5301FE128DC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D65B-7F21-4C25-8CB5-20B55304883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3797-D3EC-4586-BE0C-49A6439577C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5D06-E03A-43F5-A2B9-86101CF4299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0F03-3A34-49D5-B9CA-B53EF3672E9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چهارم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1.jpg"/>
          <p:cNvPicPr/>
          <p:nvPr/>
        </p:nvPicPr>
        <p:blipFill>
          <a:blip r:embed="rId1"/>
          <a:stretch/>
        </p:blipFill>
        <p:spPr>
          <a:xfrm>
            <a:off x="3419640" y="0"/>
            <a:ext cx="5709960" cy="6942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E:\E\دانشکده چمران\98\ترم دوم\عناصر و جزئیات\New Doc ۲۰۲۰-۰۴-۰۴_22.jpg"/>
          <p:cNvPicPr/>
          <p:nvPr/>
        </p:nvPicPr>
        <p:blipFill>
          <a:blip r:embed="rId1"/>
          <a:stretch/>
        </p:blipFill>
        <p:spPr>
          <a:xfrm>
            <a:off x="3851280" y="0"/>
            <a:ext cx="526104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E:\E\دانشکده چمران\98\ترم دوم\عناصر و جزئیات\New Doc ۲۰۲۰-۰۴-۰۴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E:\E\دانشکده چمران\98\ترم دوم\عناصر و جزئیات\New Doc ۲۰۲۰-۰۴-۰۴_24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921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E:\E\دانشکده چمران\98\ترم دوم\عناصر و جزئیات\New Doc ۲۰۲۰-۰۴-۰۴_25.jpg"/>
          <p:cNvPicPr/>
          <p:nvPr/>
        </p:nvPicPr>
        <p:blipFill>
          <a:blip r:embed="rId1"/>
          <a:stretch/>
        </p:blipFill>
        <p:spPr>
          <a:xfrm>
            <a:off x="3780000" y="11160"/>
            <a:ext cx="5332320" cy="6831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E:\E\دانشکده چمران\98\ترم دوم\عناصر و جزئیات\New Doc ۲۰۲۰-۰۴-۰۴_26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31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E:\E\دانشکده چمران\98\ترم دوم\عناصر و جزئیات\New Doc ۲۰۲۰-۰۴-۰۴_27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7542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28:46Z</dcterms:modified>
  <cp:revision>636</cp:revision>
  <dc:subject/>
  <dc:title>Slide 1</dc:title>
</cp:coreProperties>
</file>