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E9EE-BC88-4607-A960-78EA53DBD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4538-9E7C-47F3-97FF-F6C92B70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7F24-6F9C-41A2-BBC5-778BC89B8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74EF-5858-4B42-BEAE-6284253E5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DBFC-3C4E-49EC-8423-D226BC7EB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DBA8-D090-41DF-B3B7-8B2E03F2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4AB8-DEC4-44F6-8CB3-979BF48E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44DF-6A12-4EFF-880C-F0E679E2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3C43-26CC-4BD4-872F-9D0B9381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30F4-6B24-4E8B-9400-E1A28898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45A4-5A08-411C-8468-A832AD66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935F-0BED-48EC-B0A2-B77890BE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BF10-35E2-4AC8-8B63-C81C8767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7D38-E17A-4240-849E-F4A8A5E7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5D6B-7A96-479C-B8FC-46374C54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7BC4-7A3F-4148-90BF-BBFC022C8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5744-3620-4436-A10D-97E09F135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95B300-ACC9-4023-A92C-E27014B3A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55D459-683B-43F5-B411-662BC86D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6C3D87-0743-4899-A5E5-DC501398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97D481-5D4B-4CF1-9E75-A6F56308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EBCE89-F1B9-4F0B-A749-5E2DEB84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789C-D4E4-4F39-986A-6571E235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17EEF0-255B-4B01-AC8C-A071FE13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FB65E0-09B0-400A-BE7E-07949C92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6E2063-D274-4D20-B143-C3F80130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180FB8-5985-4ECB-B626-3EB16C8A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A9097C-A67D-42ED-959B-BCF62459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6196C0-E71D-46BE-9CD4-85FF03341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B6770B-1606-4950-816F-554D3CC83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646B3-1B83-4589-9336-7F768D5AF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B6D03-EBA7-414C-9570-0C4D9D4B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4C0EA-D384-41B2-ADDA-CDE1321F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F2E2-18DE-467B-9832-7C242CA4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5B45E-7DE1-4B73-BA3D-7AAB5A8D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21805-8C2E-4CC4-8DC1-96538C2E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CBDE5-5F1C-4670-9A74-25615FFD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A1DDA-3EEA-440C-9199-69F81C51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53D88-4908-49E0-A39E-00866FC6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7DF59-A7EC-4EED-A1E2-5418A7FC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31056-410F-448C-A508-E01EEF32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CE5DE-AAA3-4981-B709-ADAA53B29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DBE6A-598A-4900-ABA9-6642A0DEB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968A30-E180-41E7-A3D2-6514C977B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2851-C3F1-4337-B3D9-56C20176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4105B4-E61C-4CF0-A67B-14B8A5B3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7B94A4-BFB4-4D9D-87DD-DE0EF850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FE0800-61FA-4FE3-A2B5-A85C8246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17CB94-68DC-4082-9FEB-020543CF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23389A-F277-4493-992D-6CA52859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799BB3-76C2-48D6-A6CD-4860678F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85FFB4-1228-4A88-96D7-0B48EDB6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7EC1E5-8C10-4D9E-ACC1-92274C65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FE7BF9-43D7-45F9-B401-9DF2F7BF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12CF60-8DF6-4189-A02B-24F35F89D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290C-04D4-4EA9-8188-BA9E142A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C6C9E2-EA8C-442F-A5C6-7C0CD9F47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C96054-8A1D-4490-B4DD-48FDE672A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A16BA5-6EB6-40EF-9420-80749886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8CE8D1-F0A5-485D-A3D6-4CA65AAC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01273E-E9CB-4BE8-B90F-B659A9F3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357DF9-8495-490F-86EA-813AFF12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CD6B47-706A-4B5E-AF4D-F4229FA5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10249E-0447-40DE-9EAE-828838B0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1466E0-4DF9-409E-9628-96D46FD6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E8E08B-FAF8-41CA-8DE0-DBF33E75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0F64-B77D-42DE-884E-5BE7997F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4DA74B-BFC5-4238-98BC-4C73E818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6EC45F-7201-41D2-97BF-9B704D7C4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D5245C-2E73-425A-B0DB-A336D2EE7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E5D9B0-B731-4D86-A97B-8BAACCD07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71F6EC-5417-42A3-B012-2AB44BFE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A4AD25-8FCC-4079-B99D-4245E583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F2795D-0359-467A-9050-B7B67633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F772B5-9F72-4D46-8399-A6C9F292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464813-B53A-4D45-9E4A-F72B88C2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097425-7B34-497C-A131-4F2C8155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8EF1-59FF-4980-88F9-32CD8A51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0E330E-80B5-474D-8720-9189585D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6F9C44-40F4-4EF0-99B7-0D2868FF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40CEAA-9BA1-4248-85DA-034DBA2D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60A8A1-1A97-4F9B-A262-8C8A6396A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404F40-18D4-496A-AEFE-77C56003D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C24F-9FA4-4773-990D-97C61F2E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DF97-95BB-492D-9576-5CDB95011F60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5500-EC74-4843-8A98-E1C76F34FD7E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4656-AC99-4046-BECC-3910A910F306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5470-6E8D-47AC-AE08-AD15B559DB2C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598A-F41B-48F9-A509-3CA6C3D1D852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7A5F-9CD9-4CB1-873B-00F56CBBF804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EE4F-8FA2-47A8-972D-D4D9ADEDB243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Oval 21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1835280" y="2133720"/>
            <a:ext cx="6769080" cy="83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جلسه      پنجم    آموزش مجازی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عنوان درس: عناصر    و     جزئیات   ساختم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رشته: کاردانی پیوسته نقشه کشی معمار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مدرس: بهزاد آقاخان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شماره تماس جهت گروه واتس آپ:  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093732577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3995640" y="-100080"/>
            <a:ext cx="172404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46c0a"/>
                </a:solidFill>
                <a:latin typeface="Calibri"/>
                <a:cs typeface="IranNastaliq"/>
              </a:rPr>
              <a:t>به نام خد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5665680" y="754200"/>
            <a:ext cx="309744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558ed5"/>
                </a:solidFill>
                <a:latin typeface="Calibri"/>
                <a:cs typeface="IranNastaliq"/>
              </a:rPr>
              <a:t>دانشکده فنی و حرفه ای پسران چمران اهوا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C:\Users\Novin Pendar\Desktop\آرم دانشکده.JPG"/>
          <p:cNvPicPr/>
          <p:nvPr/>
        </p:nvPicPr>
        <p:blipFill>
          <a:blip r:embed="rId1"/>
          <a:stretch/>
        </p:blipFill>
        <p:spPr>
          <a:xfrm>
            <a:off x="1763640" y="620640"/>
            <a:ext cx="27720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E:\E\دانشکده چمران\98\ترم دوم\عناصر و جزئیات\New Doc ۲۰۲۰-۰۴-۰۴_28.jpg"/>
          <p:cNvPicPr/>
          <p:nvPr/>
        </p:nvPicPr>
        <p:blipFill>
          <a:blip r:embed="rId1"/>
          <a:stretch/>
        </p:blipFill>
        <p:spPr>
          <a:xfrm>
            <a:off x="3419640" y="25560"/>
            <a:ext cx="5724360" cy="69292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E:\E\دانشکده چمران\98\ترم دوم\عناصر و جزئیات\New Doc ۲۰۲۰-۰۴-۰۴_29.jpg"/>
          <p:cNvPicPr/>
          <p:nvPr/>
        </p:nvPicPr>
        <p:blipFill>
          <a:blip r:embed="rId1"/>
          <a:stretch/>
        </p:blipFill>
        <p:spPr>
          <a:xfrm>
            <a:off x="3995640" y="0"/>
            <a:ext cx="5113440" cy="69912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" descr="E:\E\دانشکده چمران\98\ترم دوم\عناصر و جزئیات\New Doc ۲۰۲۰-۰۴-۰۴_30.jpg"/>
          <p:cNvPicPr/>
          <p:nvPr/>
        </p:nvPicPr>
        <p:blipFill>
          <a:blip r:embed="rId1"/>
          <a:stretch/>
        </p:blipFill>
        <p:spPr>
          <a:xfrm>
            <a:off x="3780000" y="12600"/>
            <a:ext cx="5333760" cy="69548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E:\E\دانشکده چمران\98\ترم دوم\عناصر و جزئیات\New Doc ۲۰۲۰-۰۴-۰۴_31.jpg"/>
          <p:cNvPicPr/>
          <p:nvPr/>
        </p:nvPicPr>
        <p:blipFill>
          <a:blip r:embed="rId1"/>
          <a:stretch/>
        </p:blipFill>
        <p:spPr>
          <a:xfrm>
            <a:off x="3276720" y="33480"/>
            <a:ext cx="5867280" cy="68738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" descr="E:\E\دانشکده چمران\98\ترم دوم\عناصر و جزئیات\New Doc ۲۰۲۰-۰۴-۰۴_32.jpg"/>
          <p:cNvPicPr/>
          <p:nvPr/>
        </p:nvPicPr>
        <p:blipFill>
          <a:blip r:embed="rId1"/>
          <a:stretch/>
        </p:blipFill>
        <p:spPr>
          <a:xfrm>
            <a:off x="3708360" y="6480"/>
            <a:ext cx="5435640" cy="67960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9:22:35Z</dcterms:created>
  <dc:creator>iman</dc:creator>
  <dc:description/>
  <dc:language>en-US</dc:language>
  <cp:lastModifiedBy>Novin Pendar</cp:lastModifiedBy>
  <dcterms:modified xsi:type="dcterms:W3CDTF">2020-04-06T15:48:11Z</dcterms:modified>
  <cp:revision>631</cp:revision>
  <dc:subject/>
  <dc:title>Slide 1</dc:title>
</cp:coreProperties>
</file>