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8EC6-0D52-4D45-9433-7EAB327A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E6A-2DE1-4CF7-93D6-6F9456343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96B5-5A2D-4EFD-B1F8-461F772F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B20-3BD0-4A2B-BC0E-298C32ABF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5D85-CEC7-4BC2-BDD8-4D57C8A6A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5CBA-F3D8-4E59-9F80-15179582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D7C9-52D1-458C-A939-C5C40076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4DCB-0DF1-4B9A-AA9B-D23DFA47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20DDF-9DB9-4B20-A09E-F77D10C39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75D3-055D-40E4-9593-64C04801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21074-0594-496B-876A-B9FA10F53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6D2A-370D-474E-B81B-E6469F8A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DB764-18E1-4C6C-8D04-199A62B5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8B5BE-A3F3-4015-9188-BBD15FAC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0F48-3E9C-41AA-B415-4E8C3805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3946-7FBE-46D8-86B8-6F20FD4D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26F2-4B14-4310-87C6-2C65999F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C3D3D-9589-410E-ADF9-9CABD152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164A29-7F56-4D53-A370-848ED072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ABB595-4D03-43C9-9A38-5CCB8B95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5BF52-C52B-499A-9FB3-BDA4D312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6500D-8E26-4058-AFC3-723C7C45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9E3D-42A9-42F5-B68D-C69BD326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D8EC66-BE4C-4708-8942-824E99654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8CD110-FD68-4C31-86D5-2BC43335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4CE62-2D60-4792-9E8F-8B4AB10D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01C814-D6E8-4D98-BE60-C135879C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15C3A1-5C1C-413B-9E47-4EBC58F4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0F1324-BBD4-4D49-8B80-92110D4A3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4CA0A-DBF5-42C5-9BED-71E4C6C3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B8D3B-5642-43EF-927B-AE5E12937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3771-768E-4232-8F55-BC422CD2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247C6-043C-407D-945F-4DC8F1969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369-41F4-4A38-B7F1-67269416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61187-E33E-4137-B4B7-BB0F42D7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E7CCE-AFEA-4788-9835-5779ECEE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4A5E3-7016-4E52-9BA0-99D620AB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38270-5312-4C17-93DF-FD4BF9C1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C78DD-D48F-426B-A345-7ED7A4A4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14AE-6EB7-469F-BF9F-1D035FA9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B686-4C8E-40E3-AF4D-ECDA26DD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2D0C4-BA39-442B-A8DF-DCC6A4B1D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C8C8F-3DB3-49E7-8C74-10CC8D2E9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09F184-0BF7-46BC-93A2-91824350A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796E-CFB1-4B37-8042-3091B135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6CCF99-E353-4F14-8ECB-D8EA2336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C1949-BFE5-40B8-AB23-F2E07245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D5583-05CD-4F03-8246-CC50771F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8B827F-7982-4007-8666-C2E46FF1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343F4-F0F2-4457-8484-4A6BAE0C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6405D7-EBDB-42B7-A108-BB7959B27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2ECBA9-AAA7-4AFB-BD92-6B81A23F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CD3B757-2D08-4CA4-AE8E-02BE404A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2BC29-A9F1-4F65-A72B-76874C78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4BE511-20F0-4947-96F6-F88DBBEBF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1643-1CF7-4348-92ED-16271887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8A419-44F7-440D-AD83-E5CC86AD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FDA885-B8E3-4209-97C9-55F19EA2C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F4B63CD-C27C-4CF6-A788-631F1640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A6441-86CA-4A32-9CB2-4F66BCB52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1FD917-2D5D-43E6-802A-3C0F5A57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2D18B7-3D9F-4054-A2B7-1168F4B74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983178-EDDC-4C06-85A7-D0F74DB3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B839DB-33BF-43B4-A312-BFA02840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09ADB-55C5-438E-AAFE-F7905382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B0C995-71FC-4D39-A114-5BF5C4B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F7C-E139-4A3F-96DA-1F26C47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A982CD-D233-4ED0-8BF2-5183CEDE4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60654F-052B-4562-AE07-066AEF45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DAA420-55C0-4A5B-B340-B71F45C6C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5959C8-5248-4FCC-A329-A7474CAD6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AF6072-ABFB-4D07-81D0-C92FBD80A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82CDD-BCBB-4F6B-9025-712C8015D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B20AC3-D0D6-426B-981C-646DE011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BE89AF-5143-406F-B664-83CBA780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59004-34B3-4E5F-8DD9-12FB6E7E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DDFA95-1B2E-4C0D-9230-CF9067CA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07CB-9AA5-48A7-BF8A-29363E92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97F26F-7309-4179-8FD8-D8868462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7022BB-F61D-4CEF-916D-A9D1090C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83F703-93AA-431C-91F8-5F57E13DA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497563-02F5-44B5-B63F-EF2BA3CA4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B4F2E6-5F49-4AA4-8555-9A9F7C6A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9C4E-BFC6-4798-A444-8FBA6498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90D6-6C78-49DB-9471-921B76F8169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A519-5CF9-404B-93A5-72A858461E92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E757-EC51-4725-9CC6-6DCC5B716B1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b2c1d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0d8e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0d8e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9edf4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b2c1d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9edf4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b2c1d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b2c1d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eece1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eeece1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eeece1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F3A1-E966-4657-9CD3-DA6A189F89E3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A6B1-129C-466D-8467-6217EE89E259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42EE-1A94-48D9-8890-A1F8980634BD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b2c1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97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1f497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 rtl="1">
              <a:spcBef>
                <a:spcPts val="601"/>
              </a:spcBef>
              <a:buClr>
                <a:srgbClr val="4f81b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 algn="r" rtl="1">
              <a:spcBef>
                <a:spcPts val="601"/>
              </a:spcBef>
              <a:buClr>
                <a:srgbClr val="4f81bd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 algn="r" rtl="1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 algn="r" rtl="1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 algn="r" rtl="1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 algn="r" rtl="1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1f497d"/>
                </a:solidFill>
                <a:latin typeface="Century Schoolbook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defRPr>
            </a:lvl1pPr>
          </a:lstStyle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D014-54D4-4D46-B531-EF72F93C9B6A}" type="slidenum">
              <a:rPr b="1" lang="fa-IR" sz="1400" spc="-1" strike="noStrike">
                <a:solidFill>
                  <a:srgbClr val="ffffff"/>
                </a:solidFill>
                <a:latin typeface="Century Schoolbook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Oval 21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1835280" y="2133720"/>
            <a:ext cx="6769080" cy="83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جلسه      پنجم    آموزش مجازی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عنوان درس: عناصر    و     جزئیات   ساختما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رشته: کاردانی پیوسته نقشه کشی معمار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مدرس: بهزاد آقاخان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400" spc="-1" strike="noStrike">
                <a:solidFill>
                  <a:srgbClr val="e46c0a"/>
                </a:solidFill>
                <a:latin typeface="Calibri"/>
                <a:cs typeface="IranNastaliq"/>
              </a:rPr>
              <a:t>شماره تماس جهت گروه واتس آپ:  </a:t>
            </a:r>
            <a:r>
              <a:rPr b="0" lang="fa-IR" sz="4400" spc="-1" strike="noStrike">
                <a:solidFill>
                  <a:srgbClr val="e46c0a"/>
                </a:solidFill>
                <a:latin typeface="Calibri"/>
                <a:ea typeface="IranNastaliq"/>
              </a:rPr>
              <a:t>093732577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3995640" y="-100080"/>
            <a:ext cx="172404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e46c0a"/>
                </a:solidFill>
                <a:latin typeface="Calibri"/>
                <a:cs typeface="IranNastaliq"/>
              </a:rPr>
              <a:t>به نام خد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5665680" y="754200"/>
            <a:ext cx="3097440" cy="17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558ed5"/>
                </a:solidFill>
                <a:latin typeface="Calibri"/>
                <a:cs typeface="IranNastaliq"/>
              </a:rPr>
              <a:t>دانشکده فنی و حرفه ای پسران چمران اهوا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5" descr="C:\Users\Novin Pendar\Desktop\آرم دانشکده.JPG"/>
          <p:cNvPicPr/>
          <p:nvPr/>
        </p:nvPicPr>
        <p:blipFill>
          <a:blip r:embed="rId1"/>
          <a:stretch/>
        </p:blipFill>
        <p:spPr>
          <a:xfrm>
            <a:off x="1763640" y="620640"/>
            <a:ext cx="27720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5" descr="E:\E\دانشکده چمران\98\ترم دوم\عناصر و جزئیات\New Doc ۲۰۲۰-۰۴-۰۴_28.jpg"/>
          <p:cNvPicPr/>
          <p:nvPr/>
        </p:nvPicPr>
        <p:blipFill>
          <a:blip r:embed="rId1"/>
          <a:stretch/>
        </p:blipFill>
        <p:spPr>
          <a:xfrm>
            <a:off x="3419640" y="25560"/>
            <a:ext cx="5724360" cy="69292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2" descr="E:\E\دانشکده چمران\98\ترم دوم\عناصر و جزئیات\New Doc ۲۰۲۰-۰۴-۰۴_29.jpg"/>
          <p:cNvPicPr/>
          <p:nvPr/>
        </p:nvPicPr>
        <p:blipFill>
          <a:blip r:embed="rId1"/>
          <a:stretch/>
        </p:blipFill>
        <p:spPr>
          <a:xfrm>
            <a:off x="3995640" y="0"/>
            <a:ext cx="5113440" cy="69912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2" descr="E:\E\دانشکده چمران\98\ترم دوم\عناصر و جزئیات\New Doc ۲۰۲۰-۰۴-۰۴_30.jpg"/>
          <p:cNvPicPr/>
          <p:nvPr/>
        </p:nvPicPr>
        <p:blipFill>
          <a:blip r:embed="rId1"/>
          <a:stretch/>
        </p:blipFill>
        <p:spPr>
          <a:xfrm>
            <a:off x="3780000" y="12600"/>
            <a:ext cx="5333760" cy="6954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E:\E\دانشکده چمران\98\ترم دوم\عناصر و جزئیات\New Doc ۲۰۲۰-۰۴-۰۴_31.jpg"/>
          <p:cNvPicPr/>
          <p:nvPr/>
        </p:nvPicPr>
        <p:blipFill>
          <a:blip r:embed="rId1"/>
          <a:stretch/>
        </p:blipFill>
        <p:spPr>
          <a:xfrm>
            <a:off x="3276720" y="33480"/>
            <a:ext cx="5867280" cy="687384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Oval 15"/>
          <p:cNvSpPr/>
          <p:nvPr/>
        </p:nvSpPr>
        <p:spPr>
          <a:xfrm>
            <a:off x="8101080" y="5683320"/>
            <a:ext cx="647640" cy="5983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Picture 2" descr="E:\E\دانشکده چمران\98\ترم دوم\عناصر و جزئیات\New Doc ۲۰۲۰-۰۴-۰۴_32.jpg"/>
          <p:cNvPicPr/>
          <p:nvPr/>
        </p:nvPicPr>
        <p:blipFill>
          <a:blip r:embed="rId1"/>
          <a:stretch/>
        </p:blipFill>
        <p:spPr>
          <a:xfrm>
            <a:off x="3708360" y="6480"/>
            <a:ext cx="5435640" cy="679608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8T19:22:35Z</dcterms:created>
  <dc:creator>iman</dc:creator>
  <dc:description/>
  <dc:language>en-US</dc:language>
  <cp:lastModifiedBy>Novin Pendar</cp:lastModifiedBy>
  <dcterms:modified xsi:type="dcterms:W3CDTF">2020-04-06T15:48:11Z</dcterms:modified>
  <cp:revision>631</cp:revision>
  <dc:subject/>
  <dc:title>Slide 1</dc:title>
</cp:coreProperties>
</file>