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3F0-3F19-4977-A982-1151B626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990-9B72-431B-8879-AB52AF6F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F9EB-009C-4C5D-A1E7-742B94F6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ECF-94D5-4137-8BF6-FB1D1610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7DA0-664F-4C82-A213-AA8BB8EB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6F85-10E4-4346-8640-B809F5E4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D56E-B807-4370-B35C-6B3DF659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3642-9159-4727-9EE1-F8066E84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C3CD-F2A6-45DA-A1A6-20571899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C3CC-8860-4CFB-BEBF-F9D747D8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BC82-E9B4-4908-9BA2-4DD32975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0E3-FEAB-4172-830A-F81BCAD7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CF97-A689-4772-AF39-9247DB51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4CFF-5C25-406F-BBBF-C73C83BB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2CE4-2708-4CB6-801B-75B05896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347F-F94B-44B0-84C3-C613FE6A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FF55-D192-45B9-B9AA-A8E72668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C5F2F-45C3-489B-965F-A4E62A10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51C4F-AD80-4CA3-ADDC-5295994A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7AD93-EC0C-41E4-B76D-9BC542B9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4A52E-2A1A-4AA3-A633-E9F7002A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8EEAF-98DF-4A35-AB76-FAC217AB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990-72D2-4657-9B91-B3E1ECB2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A40DA-359D-47A8-97DE-4A4BD309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7352F-9418-4CE3-819B-CD4460CD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3C1C8-B5FE-41A4-B929-9F24FD8A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70A5F-4D69-483F-B639-233CE825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5BAA3-F137-4C14-A207-A772B980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E5745-7786-4926-A05C-2BCE464C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290EF-F087-4C52-A362-9AB855AA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00EDB-A9FA-4B45-93C5-873F5EE2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CB5EF-FB84-462D-8A88-5E8F3ED5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8AD1A-5BB6-4C98-A6C7-A5963500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033-5A33-459C-9841-5A12A046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C11AA-C16C-4EF3-9FE4-0A1747B2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52503-9329-4DF9-8E7F-C4CEB3B4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A6AE8-DD58-4487-B4B3-F695327F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B6D9-9D9A-4CB2-AC5B-5F56806D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F60E6-5445-4F31-A35D-F0C092EA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079EF-583E-4931-A200-BDA7D16E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61868-121F-4F11-A487-2F70B2A4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4907B-A9F3-4CD0-8789-EBB2EB22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A0C75-E7A1-412E-AA96-8B6AC994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2DB8A-DEC9-4630-A9FF-1D2B93AD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25C-21EC-45F1-B61A-618EF158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BF38EC-2114-4AF9-8E9C-DB307D69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BEB1B-3F3C-44F9-842A-AB8C0F56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15792-895F-49E7-83F3-15605273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F047B-CD54-4EB5-87BA-248FE6FE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909E6B-A32E-4D51-83D4-C8DCD492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77B14-6264-4FF2-B2EF-71DD0455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CD1AAB-8477-40AF-8625-3C0E5548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A5B82-4413-4E6F-B72A-3AE5DE5F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21B43-0E94-4FB0-8B92-84C6886D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F778C-ABFD-4163-9851-04811BA5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BD5-8140-4A13-8E39-1FEC8896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10386-827F-42FA-81E0-CDE6BD66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3C41D-9563-4B2D-82D7-FD4D347A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69E4F9-FAF4-4855-A101-26D148F1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4B150D-E7EF-4E39-8C9D-BD39CCE9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8C8374-BFD1-468C-AA01-C66E61B7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6D4ADA-479B-40E1-A7E2-40FB57F7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59A925-60DF-4AAE-9C41-44F2D5F2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E5EC7-78D5-47E4-BE31-C225BDC7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F8E11-AE4B-4210-BA54-9B4BB914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F84C6-518A-4FCB-926B-B278DE22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799-59D0-436D-90E6-57B9FDD7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7EDC1-ABB6-4315-85C9-8E2C4900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E2BFFE-E3B2-410C-96C4-506AE54C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7BB920-1FC7-4A30-92BE-00D50845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C55357-EF4E-4E69-B9F0-B3327534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042BE-9535-4350-872C-44F853BC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BFD72D-AED5-4FCA-A7E2-FECA15BC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CBA635-571C-48E5-9135-AE163A62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CAF561-6F9F-4C20-A569-8F0C561C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CB1BD-7EBA-4A8D-A8EB-6B388AF1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F48B9-EF41-40BA-88BC-A1130CFB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4285-2E52-406D-94F1-CBFC715E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2278B-43D3-47C5-A689-B5CA2CA0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56EAF5-3277-4C08-A1A3-1D4F4FA8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423C52-2CCB-47E7-9F57-56957FD9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53B6B7-81DF-4B56-9E65-1B630708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9645AB-34F1-448D-87EC-39152625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526-38EB-47EF-B689-8E01DC83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0568-41D2-4E07-8FA4-C502D193786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2CE2-4AA6-4791-B97C-198B78B1016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AC7D-D264-42FF-B01A-3A3100B84CF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5329-EA77-4F5C-A4F6-12FEB9B54C2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0B0E-76D6-4E9F-9207-D24FCE47A27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400A-9C99-46A3-BF75-5731711469D0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6DF0-619B-4D27-B2F2-E66A9F6E5A4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    پنجم 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8.jpg"/>
          <p:cNvPicPr/>
          <p:nvPr/>
        </p:nvPicPr>
        <p:blipFill>
          <a:blip r:embed="rId1"/>
          <a:stretch/>
        </p:blipFill>
        <p:spPr>
          <a:xfrm>
            <a:off x="3419640" y="25560"/>
            <a:ext cx="5724360" cy="6929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29.jpg"/>
          <p:cNvPicPr/>
          <p:nvPr/>
        </p:nvPicPr>
        <p:blipFill>
          <a:blip r:embed="rId1"/>
          <a:stretch/>
        </p:blipFill>
        <p:spPr>
          <a:xfrm>
            <a:off x="3995640" y="0"/>
            <a:ext cx="5113440" cy="6991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30.jpg"/>
          <p:cNvPicPr/>
          <p:nvPr/>
        </p:nvPicPr>
        <p:blipFill>
          <a:blip r:embed="rId1"/>
          <a:stretch/>
        </p:blipFill>
        <p:spPr>
          <a:xfrm>
            <a:off x="3780000" y="12600"/>
            <a:ext cx="5333760" cy="6954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31.jpg"/>
          <p:cNvPicPr/>
          <p:nvPr/>
        </p:nvPicPr>
        <p:blipFill>
          <a:blip r:embed="rId1"/>
          <a:stretch/>
        </p:blipFill>
        <p:spPr>
          <a:xfrm>
            <a:off x="3276720" y="33480"/>
            <a:ext cx="586728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32.jpg"/>
          <p:cNvPicPr/>
          <p:nvPr/>
        </p:nvPicPr>
        <p:blipFill>
          <a:blip r:embed="rId1"/>
          <a:stretch/>
        </p:blipFill>
        <p:spPr>
          <a:xfrm>
            <a:off x="3708360" y="6480"/>
            <a:ext cx="5435640" cy="6796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48:11Z</dcterms:modified>
  <cp:revision>631</cp:revision>
  <dc:subject/>
  <dc:title>Slide 1</dc:title>
</cp:coreProperties>
</file>